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1.xml.rels" ContentType="application/vnd.openxmlformats-package.relationships+xml"/>
  <Override PartName="/ppt/notesSlides/notesSlide6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16.wmf" ContentType="image/x-wmf"/>
  <Override PartName="/ppt/media/image8.png" ContentType="image/png"/>
  <Override PartName="/ppt/media/image13.png" ContentType="image/png"/>
  <Override PartName="/ppt/media/image33.wmf" ContentType="image/x-wmf"/>
  <Override PartName="/ppt/media/image29.wmf" ContentType="image/x-wmf"/>
  <Override PartName="/ppt/media/image31.wmf" ContentType="image/x-wmf"/>
  <Override PartName="/ppt/media/image11.png" ContentType="image/png"/>
  <Override PartName="/ppt/media/image17.wmf" ContentType="image/x-wmf"/>
  <Override PartName="/ppt/media/image9.png" ContentType="image/png"/>
  <Override PartName="/ppt/media/image34.wmf" ContentType="image/x-wmf"/>
  <Override PartName="/ppt/media/image14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0.wmf" ContentType="image/x-wmf"/>
  <Override PartName="/ppt/media/image1.jpeg" ContentType="image/jpeg"/>
  <Override PartName="/ppt/media/image10.png" ContentType="image/png"/>
  <Override PartName="/ppt/media/image28.wmf" ContentType="image/x-wmf"/>
  <Override PartName="/ppt/media/image3.png" ContentType="image/png"/>
  <Override PartName="/ppt/media/image26.png" ContentType="image/png"/>
  <Override PartName="/ppt/media/image5.png" ContentType="image/png"/>
  <Override PartName="/ppt/media/image15.png" ContentType="image/png"/>
  <Override PartName="/ppt/media/image2.jpeg" ContentType="image/jpeg"/>
  <Override PartName="/ppt/media/image18.wmf" ContentType="image/x-wmf"/>
  <Override PartName="/ppt/media/image20.wmf" ContentType="image/x-wmf"/>
  <Override PartName="/ppt/media/image21.png" ContentType="image/png"/>
  <Override PartName="/ppt/media/image1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51A85-1048-4177-884B-C88ACD8B31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4D393-4E43-466F-8831-86301BF898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06640" y="67932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899640" y="4373640"/>
            <a:ext cx="5038920" cy="40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AE50-76DE-43AF-A9C5-A7BB11B8D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17FC-9F04-492A-BA4E-44138A042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E2FF-53AB-4933-A038-541FD1E6B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2BF5-A764-43C1-9180-7AA490367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4A3A-B954-4147-81D2-01067D126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816A-6F6C-48BF-AF8B-BA249D6AA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E3CA-D2F4-4E8E-807A-AC4F44910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7105-18B7-4FC3-9965-478CD0E02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DC30-F080-448F-AC0C-9E4853E2D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AE57-7124-4C7E-B224-A7D66BE70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08D8-35F4-480F-977A-DAA8F329E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78D5-B95F-4579-811E-E05505362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2185B-4274-413C-937F-6B3602FB43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6.png"/><Relationship Id="rId1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Network_address_translation" TargetMode="External"/><Relationship Id="rId2" Type="http://schemas.openxmlformats.org/officeDocument/2006/relationships/hyperlink" Target="http://en.wikipedia.org/wiki/Classless_Inter-Domain_Routing" TargetMode="External"/><Relationship Id="rId3" Type="http://schemas.openxmlformats.org/officeDocument/2006/relationships/hyperlink" Target="http://tools.ietf.org/html/rfc1918" TargetMode="External"/><Relationship Id="rId4" Type="http://schemas.openxmlformats.org/officeDocument/2006/relationships/hyperlink" Target="http://en.wikipedia.org/wiki/Zeroconf" TargetMode="External"/><Relationship Id="rId5" Type="http://schemas.openxmlformats.org/officeDocument/2006/relationships/hyperlink" Target="http://tools.ietf.org/html/rfc3927" TargetMode="External"/><Relationship Id="rId6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tworking protoco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d administration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V8030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troductory le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urity-oriente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ucial security issues depend on protocol detail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S uses TCP SYN flood, et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attacks use spoof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ntermeasures and administration requires  detailed understanding of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toc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re techn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nial of service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rrently prevailing attack type: DOS atta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A set of attacks intended to </a:t>
            </a:r>
            <a:r>
              <a:rPr b="0" lang="en-US" sz="2400" spc="-1" strike="noStrike">
                <a:solidFill>
                  <a:srgbClr val="ca3000"/>
                </a:solidFill>
                <a:latin typeface="Arial"/>
                <a:ea typeface="굴림"/>
              </a:rPr>
              <a:t>consume th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a3000"/>
                </a:solidFill>
                <a:latin typeface="Arial"/>
                <a:ea typeface="굴림"/>
              </a:rPr>
              <a:t>resour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of a remote host or network, thereb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a3000"/>
                </a:solidFill>
                <a:latin typeface="Arial"/>
                <a:ea typeface="굴림"/>
              </a:rPr>
              <a:t>deny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or </a:t>
            </a:r>
            <a:r>
              <a:rPr b="0" lang="en-US" sz="2000" spc="-1" strike="noStrike">
                <a:solidFill>
                  <a:srgbClr val="ca3000"/>
                </a:solidFill>
                <a:latin typeface="Arial"/>
                <a:ea typeface="굴림"/>
              </a:rPr>
              <a:t>degrading serv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to legitimate us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t us see some excerpts from DOS attack explanations: just for basic motiv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ttack classif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굴림"/>
              </a:rPr>
              <a:t>System Attacke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ca3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3000"/>
                </a:solidFill>
                <a:latin typeface="Calibri"/>
                <a:ea typeface="굴림"/>
              </a:rPr>
              <a:t>Firewall, Router,  Load Balancer, WEB Server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DB’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굴림"/>
              </a:rPr>
              <a:t>Part of the System Attacke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Network Card, </a:t>
            </a:r>
            <a:r>
              <a:rPr b="0" lang="en-US" sz="2400" spc="-1" strike="noStrike">
                <a:solidFill>
                  <a:srgbClr val="ca3000"/>
                </a:solidFill>
                <a:latin typeface="Calibri"/>
                <a:ea typeface="굴림"/>
              </a:rPr>
              <a:t>CP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, Stor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ca3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3000"/>
                </a:solidFill>
                <a:latin typeface="Calibri"/>
                <a:ea typeface="굴림"/>
              </a:rPr>
              <a:t>Operating Syste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,  </a:t>
            </a:r>
            <a:r>
              <a:rPr b="0" lang="en-US" sz="2400" spc="-1" strike="noStrike">
                <a:solidFill>
                  <a:srgbClr val="ca3000"/>
                </a:solidFill>
                <a:latin typeface="Calibri"/>
                <a:ea typeface="굴림"/>
              </a:rPr>
              <a:t>TCP/IP Stac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굴림"/>
              </a:rPr>
              <a:t>Bug or Overlo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ca3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3000"/>
                </a:solidFill>
                <a:latin typeface="Calibri"/>
                <a:ea typeface="굴림"/>
              </a:rPr>
              <a:t>Bugs, Configuration Erro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S attack taxono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4" descr="fig1"/>
          <p:cNvPicPr/>
          <p:nvPr/>
        </p:nvPicPr>
        <p:blipFill>
          <a:blip r:embed="rId1"/>
          <a:stretch/>
        </p:blipFill>
        <p:spPr>
          <a:xfrm>
            <a:off x="642960" y="1643040"/>
            <a:ext cx="71438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looding DOS attac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6" descr="Fig2-new"/>
          <p:cNvPicPr/>
          <p:nvPr/>
        </p:nvPicPr>
        <p:blipFill>
          <a:blip r:embed="rId1"/>
          <a:stretch/>
        </p:blipFill>
        <p:spPr>
          <a:xfrm>
            <a:off x="214200" y="1785960"/>
            <a:ext cx="830916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YN attack: based on TC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굴림"/>
              </a:rPr>
              <a:t>Recent experiments shown that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SYN attacks with rate of only 500 SYN packets per second are enough strong to overwhelm a ser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Even a specialized firewall, which is designed to resist SYN floods, becomes futile under a flood of 14,000 packets per seco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SYN sta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굴림"/>
              </a:rPr>
              <a:t>Graph analy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50% of attacks are less than 10 minut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80% are less than 30 minut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90% last less than an hou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굴림"/>
              </a:rPr>
              <a:t>Most of the DoS attacks are not likely last lo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Duration in interval 3- 30 minut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YN attack idea (TCP-base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굴림"/>
              </a:rPr>
              <a:t>SYN Floo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Using the </a:t>
            </a:r>
            <a:r>
              <a:rPr b="0" lang="en-US" sz="2400" spc="-1" strike="noStrike">
                <a:solidFill>
                  <a:srgbClr val="0066ff"/>
                </a:solidFill>
                <a:latin typeface="Calibri"/>
                <a:ea typeface="굴림"/>
              </a:rPr>
              <a:t>Three-way handshak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 mechanism of TC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=&gt; During </a:t>
            </a:r>
            <a:r>
              <a:rPr b="0" lang="en-US" sz="2400" spc="-1" strike="noStrike">
                <a:solidFill>
                  <a:srgbClr val="ca3000"/>
                </a:solidFill>
                <a:latin typeface="Calibri"/>
                <a:ea typeface="굴림"/>
              </a:rPr>
              <a:t>75 seconds of half-open sta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=&gt; Limited number of half-open connections per port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maintained by Memory </a:t>
            </a:r>
            <a:r>
              <a:rPr b="0" lang="en-US" sz="2400" spc="-1" strike="noStrike">
                <a:solidFill>
                  <a:srgbClr val="ca3000"/>
                </a:solidFill>
                <a:latin typeface="Calibri"/>
                <a:ea typeface="굴림"/>
              </a:rPr>
              <a:t>backlo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 queu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As long as backlog queue limit is reached, </a:t>
            </a:r>
            <a:r>
              <a:rPr b="0" lang="en-US" sz="2400" spc="-1" strike="noStrike">
                <a:solidFill>
                  <a:srgbClr val="ca3000"/>
                </a:solidFill>
                <a:latin typeface="Calibri"/>
                <a:ea typeface="굴림"/>
              </a:rPr>
              <a:t>discard new connection reques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 from any cli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Usually SYN packet has spoofed source addr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=&gt; A victim server never receives the final ACK packet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=&gt; Keep waiting until the time’s u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MURF attack idea (ICMP-base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굴림"/>
              </a:rPr>
              <a:t>Smur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Using a forged </a:t>
            </a:r>
            <a:r>
              <a:rPr b="0" lang="en-US" sz="2400" spc="-1" strike="noStrike">
                <a:solidFill>
                  <a:srgbClr val="0066ff"/>
                </a:solidFill>
                <a:latin typeface="Calibri"/>
                <a:ea typeface="굴림"/>
              </a:rPr>
              <a:t>ICMP Echo Request packe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=&gt; Three parties :  A attacker, Intermediary, A victim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=&gt; Setting </a:t>
            </a:r>
            <a:r>
              <a:rPr b="0" lang="en-US" sz="2400" spc="-1" strike="noStrike">
                <a:solidFill>
                  <a:srgbClr val="ca3000"/>
                </a:solidFill>
                <a:latin typeface="Calibri"/>
                <a:ea typeface="굴림"/>
              </a:rPr>
              <a:t>source addres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 by </a:t>
            </a:r>
            <a:r>
              <a:rPr b="0" lang="en-US" sz="2400" spc="-1" strike="noStrike">
                <a:solidFill>
                  <a:srgbClr val="ca3000"/>
                </a:solidFill>
                <a:latin typeface="Calibri"/>
                <a:ea typeface="굴림"/>
              </a:rPr>
              <a:t>targeting machine addres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=&gt; </a:t>
            </a:r>
            <a:r>
              <a:rPr b="0" lang="en-US" sz="2400" spc="-1" strike="noStrike">
                <a:solidFill>
                  <a:srgbClr val="ca3000"/>
                </a:solidFill>
                <a:latin typeface="Calibri"/>
                <a:ea typeface="굴림"/>
              </a:rPr>
              <a:t>ICMP type fiel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 as “</a:t>
            </a:r>
            <a:r>
              <a:rPr b="0" lang="en-US" sz="2400" spc="-1" strike="noStrike">
                <a:solidFill>
                  <a:srgbClr val="ca3000"/>
                </a:solidFill>
                <a:latin typeface="Calibri"/>
                <a:ea typeface="굴림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”, and </a:t>
            </a:r>
            <a:r>
              <a:rPr b="0" lang="en-US" sz="2400" spc="-1" strike="noStrike">
                <a:solidFill>
                  <a:srgbClr val="ca3000"/>
                </a:solidFill>
                <a:latin typeface="Calibri"/>
                <a:ea typeface="굴림"/>
              </a:rPr>
              <a:t>broadcas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to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intermediary networ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After receiving a redirected ICMP Echo Request, each machine of the Intermediary will send ICMP Echo reply by setting </a:t>
            </a:r>
            <a:r>
              <a:rPr b="0" lang="en-US" sz="2400" spc="-1" strike="noStrike">
                <a:solidFill>
                  <a:srgbClr val="ca3000"/>
                </a:solidFill>
                <a:latin typeface="Calibri"/>
                <a:ea typeface="굴림"/>
              </a:rPr>
              <a:t>type field “0” to the victi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Intermediary also experience </a:t>
            </a:r>
            <a:r>
              <a:rPr b="0" lang="en-US" sz="2400" spc="-1" strike="noStrike">
                <a:solidFill>
                  <a:srgbClr val="ca3000"/>
                </a:solidFill>
                <a:latin typeface="Calibri"/>
                <a:ea typeface="굴림"/>
              </a:rPr>
              <a:t>unintended heavy traffic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ARDROP idea (IP fragmentation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굴림"/>
              </a:rPr>
              <a:t>Teardr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Using a </a:t>
            </a:r>
            <a:r>
              <a:rPr b="0" lang="en-US" sz="2400" spc="-1" strike="noStrike">
                <a:solidFill>
                  <a:srgbClr val="0066ff"/>
                </a:solidFill>
                <a:latin typeface="Calibri"/>
                <a:ea typeface="굴림"/>
              </a:rPr>
              <a:t>IP fragmentation mechanis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=&gt; If there is too large packet to be handled by next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router, then divide into fragme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=&gt; Each fragment will be </a:t>
            </a:r>
            <a:r>
              <a:rPr b="0" lang="en-US" sz="2400" spc="-1" strike="noStrike">
                <a:solidFill>
                  <a:srgbClr val="ca3000"/>
                </a:solidFill>
                <a:latin typeface="Calibri"/>
                <a:ea typeface="굴림"/>
              </a:rPr>
              <a:t>identified by offse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 wh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needs to be </a:t>
            </a:r>
            <a:r>
              <a:rPr b="0" lang="en-US" sz="2400" spc="-1" strike="noStrike">
                <a:solidFill>
                  <a:srgbClr val="ca3000"/>
                </a:solidFill>
                <a:latin typeface="Calibri"/>
                <a:ea typeface="굴림"/>
              </a:rPr>
              <a:t>re-assemb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=&gt; Attacker put some </a:t>
            </a:r>
            <a:r>
              <a:rPr b="0" lang="en-US" sz="2400" spc="-1" strike="noStrike">
                <a:solidFill>
                  <a:srgbClr val="ca3000"/>
                </a:solidFill>
                <a:latin typeface="Calibri"/>
                <a:ea typeface="굴림"/>
              </a:rPr>
              <a:t>confusing offset valu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 in th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second or later fragmen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=&gt; If the receiving </a:t>
            </a:r>
            <a:r>
              <a:rPr b="0" lang="en-US" sz="2400" spc="-1" strike="noStrike">
                <a:solidFill>
                  <a:srgbClr val="ca3000"/>
                </a:solidFill>
                <a:latin typeface="Calibri"/>
                <a:ea typeface="굴림"/>
              </a:rPr>
              <a:t>O.S. doesn’t have pla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 for th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situation, it cause the system to cras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minor effect, a </a:t>
            </a:r>
            <a:r>
              <a:rPr b="0" lang="en-US" sz="2400" spc="-1" strike="noStrike">
                <a:solidFill>
                  <a:srgbClr val="0066ff"/>
                </a:solidFill>
                <a:latin typeface="Calibri"/>
                <a:ea typeface="굴림"/>
              </a:rPr>
              <a:t>simple reboot will recover the sys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ro lecture pl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Goals of the course, materials, etc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efence motivation: brief overview of DO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Refresher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tocol lay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SO-OSI general protocol stac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ernet protocol stac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ternet addresses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ay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served and special address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ivate network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ubne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ID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d control packets (routing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굴림"/>
              </a:rPr>
              <a:t>Bad control pa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A malicious router generates a sequence of bad control pack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Control packets are ordered according to the SN such that one is “fresher” than another and thus is formed a cycl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Because control packets receive a higher priority than data packets, routers spent more of their time handling these routing updat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lack holes (routing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굴림"/>
              </a:rPr>
              <a:t>Black Hol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Routers exchange control packets to reflect changes, such as topology changes in the network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A Black Hole router sends out routing updates claiming that it is on a zero-cost (or low cost) path to all destina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Black Hole router drops the packets that receive from its neighbor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fresher: networking lev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plications: http, ftp, 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ding addresses: D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ing channel, using ports: TCP, UD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nding and routing packets: IP, ICMP, ARP, 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cal network: typically ethern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w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ocols/lay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lides from Stall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in comm layering ide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rcRect l="0" t="0" r="0" b="23071"/>
          <a:stretch/>
        </p:blipFill>
        <p:spPr>
          <a:xfrm>
            <a:off x="214200" y="2643120"/>
            <a:ext cx="870120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ckets and header lay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4" descr=""/>
          <p:cNvPicPr/>
          <p:nvPr/>
        </p:nvPicPr>
        <p:blipFill>
          <a:blip r:embed="rId1"/>
          <a:srcRect l="0" t="0" r="0" b="20507"/>
          <a:stretch/>
        </p:blipFill>
        <p:spPr>
          <a:xfrm>
            <a:off x="228600" y="2211480"/>
            <a:ext cx="8915400" cy="46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ocol layers add head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rcRect l="0" t="0" r="0" b="13127"/>
          <a:stretch/>
        </p:blipFill>
        <p:spPr>
          <a:xfrm>
            <a:off x="214200" y="1571760"/>
            <a:ext cx="869976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SI lay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Content Placeholder 3" descr=""/>
          <p:cNvPicPr/>
          <p:nvPr/>
        </p:nvPicPr>
        <p:blipFill>
          <a:blip r:embed="rId1"/>
          <a:srcRect l="0" t="0" r="0" b="8634"/>
          <a:stretch/>
        </p:blipFill>
        <p:spPr>
          <a:xfrm>
            <a:off x="285840" y="357120"/>
            <a:ext cx="378612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SI layers/head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5" descr=""/>
          <p:cNvPicPr/>
          <p:nvPr/>
        </p:nvPicPr>
        <p:blipFill>
          <a:blip r:embed="rId1"/>
          <a:srcRect l="0" t="0" r="0" b="5070"/>
          <a:stretch/>
        </p:blipFill>
        <p:spPr>
          <a:xfrm>
            <a:off x="685800" y="1523880"/>
            <a:ext cx="7315200" cy="52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et lay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ternet layers are not exactly like ISO-OSI laye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ost of the ISO-OSI layers are missing or merge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Normal internet  layers with three headers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aw data using application-specific enco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TCP or UDP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eader (ports and control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P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header  (addressing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Ethernet frame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eader  and  trailer (local network, not wide-area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lides from CISCO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oals of the cour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arn core internet standards/protocol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CP, UD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CMP, ARP, DHCP,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arn how crucial methods work: routing, NAT,  firewalls, 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arn some network administ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610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and Future of TCP/I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5400" y="1964880"/>
            <a:ext cx="4344840" cy="39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U.S. Department of Defense (DoD) created the TCP/IP reference model because it wanted a network that could survive any condition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ome of the layers in the TCP/IP model have the same name as layers in the OSI model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Picture 4" descr=""/>
          <p:cNvPicPr/>
          <p:nvPr/>
        </p:nvPicPr>
        <p:blipFill>
          <a:blip r:embed="rId1"/>
          <a:stretch/>
        </p:blipFill>
        <p:spPr>
          <a:xfrm>
            <a:off x="4892760" y="1371600"/>
            <a:ext cx="35370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 Lay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ndles high-level protocols, issues of representation, encoding, and dialog contro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CP/IP protocol suite combines all application related issues into one layer and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res this data is properly packaged before passing it on to the next lay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610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Application Layer Exampl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6" descr=""/>
          <p:cNvPicPr/>
          <p:nvPr/>
        </p:nvPicPr>
        <p:blipFill>
          <a:blip r:embed="rId1"/>
          <a:stretch/>
        </p:blipFill>
        <p:spPr>
          <a:xfrm>
            <a:off x="1676520" y="1376280"/>
            <a:ext cx="5943600" cy="48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nsport Lay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ve basic service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gmenting upper-layer application da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stablishing end-to-end oper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nding segments from one end host to another end ho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nsuring data reliabil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viding flow contr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500"/>
                            </p:stCondLst>
                            <p:childTnLst>
                              <p:par>
                                <p:cTn id="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nsport Layer Protoco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Picture 5" descr=""/>
          <p:cNvPicPr/>
          <p:nvPr/>
        </p:nvPicPr>
        <p:blipFill>
          <a:blip r:embed="rId1"/>
          <a:stretch/>
        </p:blipFill>
        <p:spPr>
          <a:xfrm>
            <a:off x="1143000" y="1440000"/>
            <a:ext cx="7391520" cy="46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et Lay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9" descr=""/>
          <p:cNvPicPr/>
          <p:nvPr/>
        </p:nvPicPr>
        <p:blipFill>
          <a:blip r:embed="rId1"/>
          <a:stretch/>
        </p:blipFill>
        <p:spPr>
          <a:xfrm>
            <a:off x="990720" y="2678040"/>
            <a:ext cx="7458120" cy="387504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10"/>
          <p:cNvSpPr/>
          <p:nvPr/>
        </p:nvSpPr>
        <p:spPr>
          <a:xfrm>
            <a:off x="762120" y="1371600"/>
            <a:ext cx="7924680" cy="9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purpose of the Internet layer is to send packets from a network node and have them arrive at the destination node independent of the path taken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610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twork Access Lay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760" y="1295280"/>
            <a:ext cx="823104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network access layer is concerned with all of the issues that an IP packet requires to actually make a physical link to the network media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t includes the LAN and WAN technology details, and all the details contained in the OSI physical and data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ink layers.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4" descr=""/>
          <p:cNvPicPr/>
          <p:nvPr/>
        </p:nvPicPr>
        <p:blipFill>
          <a:blip r:embed="rId1"/>
          <a:stretch/>
        </p:blipFill>
        <p:spPr>
          <a:xfrm>
            <a:off x="1828800" y="3673440"/>
            <a:ext cx="563868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aring the OSI Model and TCP/IP Mo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1719360"/>
            <a:ext cx="830592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ilarities of the OSI and TCP/IP Model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760" y="1599840"/>
            <a:ext cx="8224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th have layer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th have application layers, though they include very different service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th have comparable transport and network layer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cket-switched, not circuit-switched, technology is assumed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tworking professionals need to know both model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fferences of the OSI and TCP/IP Model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5760" y="1599840"/>
            <a:ext cx="8224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CP/IP combines the presentation and session layer into its application layer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CP/IP combines the OSI data link and physical layers into one layer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CP/IP appears simpler because it has fewer layer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CP/IP transport layer using UDP does not always guarantee reliable delivery of packets as the transport layer in the OSI model doe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t in the course sco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unication physics: frequencies, 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derlying low-level comms: ATM, Wifi, 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pper-level application protocols: http, ftp, 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yptograph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tual def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et 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omputers, anywhere in the world, following certain hardware, software, protocol specifications, can communicate, reliably even when not directly connecte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Ns are no longer scalable beyond a certain number of stations or geographic separa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ddres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ral kinds of addresses are used in the normal internet activiti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AC addres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"ethernet card address", like 01:23:45:67:89:ab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 by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d in a local net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P addres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(like 234.14.189.2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 bytes for IPv4, sixteen bytes for IPv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d for actual routing of packets worldwi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pped to MAC address by ARP and RARP services in local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ost nam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like www.ttu.ee)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t used for actual routing of packe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pped to IP address by the worldwide DNS server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et addr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asic internet address and related issue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4-byte integ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very machine on the internet must have a unique address to which packets are s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P addresses of a machine may change (f.ex. DHCP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outing is a complex problem, tables grow bi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very machine has ports (two-byte integer) to which applications are connec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-byte addresses are not enoug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twork address translation (NAT) may map/change addresses when packet is entering a local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sing slides and materials from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iv of Virginia / Univ of Toron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ISCO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ikiped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me other present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610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P Addr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5760" y="1447920"/>
            <a:ext cx="822456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n IP address is a 32-bit sequence of 1s and 0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o make the IP address easier to use, the address is usually written as four decimal numbers separated by periods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s way of writing the address is called the dotted decimal format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4" descr=""/>
          <p:cNvPicPr/>
          <p:nvPr/>
        </p:nvPicPr>
        <p:blipFill>
          <a:blip r:embed="rId1"/>
          <a:srcRect l="0" t="13338" r="0" b="24536"/>
          <a:stretch/>
        </p:blipFill>
        <p:spPr>
          <a:xfrm>
            <a:off x="152280" y="4495680"/>
            <a:ext cx="8839440" cy="10670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5" descr=""/>
          <p:cNvPicPr/>
          <p:nvPr/>
        </p:nvPicPr>
        <p:blipFill>
          <a:blip r:embed="rId2"/>
          <a:stretch/>
        </p:blipFill>
        <p:spPr>
          <a:xfrm>
            <a:off x="266760" y="5562720"/>
            <a:ext cx="8610480" cy="9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500"/>
                            </p:stCondLst>
                            <p:childTnLst>
                              <p:par>
                                <p:cTn id="2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P Addresses in packet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0" name="Object 2"/>
          <p:cNvGraphicFramePr/>
          <p:nvPr/>
        </p:nvGraphicFramePr>
        <p:xfrm>
          <a:off x="457200" y="5310360"/>
          <a:ext cx="8467560" cy="112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10360"/>
                    <a:ext cx="8467560" cy="112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Line 4"/>
          <p:cNvSpPr/>
          <p:nvPr/>
        </p:nvSpPr>
        <p:spPr>
          <a:xfrm>
            <a:off x="1676520" y="4191120"/>
            <a:ext cx="30456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5"/>
          <p:cNvSpPr/>
          <p:nvPr/>
        </p:nvSpPr>
        <p:spPr>
          <a:xfrm flipH="1">
            <a:off x="3276720" y="4191120"/>
            <a:ext cx="495288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Object 3"/>
          <p:cNvGraphicFramePr/>
          <p:nvPr/>
        </p:nvGraphicFramePr>
        <p:xfrm>
          <a:off x="380880" y="1704960"/>
          <a:ext cx="8467920" cy="2714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1704960"/>
                    <a:ext cx="8467920" cy="27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P Addresses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7" name="Object 2"/>
          <p:cNvGraphicFramePr/>
          <p:nvPr/>
        </p:nvGraphicFramePr>
        <p:xfrm>
          <a:off x="457200" y="5310360"/>
          <a:ext cx="8467560" cy="112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10360"/>
                    <a:ext cx="8467560" cy="112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Line 4"/>
          <p:cNvSpPr/>
          <p:nvPr/>
        </p:nvSpPr>
        <p:spPr>
          <a:xfrm>
            <a:off x="1676520" y="4191120"/>
            <a:ext cx="30456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5"/>
          <p:cNvSpPr/>
          <p:nvPr/>
        </p:nvSpPr>
        <p:spPr>
          <a:xfrm flipH="1">
            <a:off x="3276720" y="4191120"/>
            <a:ext cx="495288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Object 3"/>
          <p:cNvGraphicFramePr/>
          <p:nvPr/>
        </p:nvGraphicFramePr>
        <p:xfrm>
          <a:off x="380880" y="1704960"/>
          <a:ext cx="8467920" cy="2714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1704960"/>
                    <a:ext cx="8467920" cy="27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610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P addresses contain two pa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5760" y="1214280"/>
            <a:ext cx="8224560" cy="507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4-byte IP address contains two parts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twork address (routers know how to send packet to that network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st number (only local router knows how to send data inside local network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ree historic phases for hierachy organis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fixed-length parts (very early):  byte 1 (8 bits)  for network, bytes 2-4 (24 bits) for h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xed types  (A, B, C, D, E) of network addre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lexible selection of network address and local address parts  (since 1993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1500120" y="3357720"/>
            <a:ext cx="3048120" cy="53316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twork pref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4572000" y="3357720"/>
            <a:ext cx="3048120" cy="533160"/>
          </a:xfrm>
          <a:prstGeom prst="rect">
            <a:avLst/>
          </a:prstGeom>
          <a:solidFill>
            <a:srgbClr val="ffcc66"/>
          </a:solidFill>
          <a:ln w="0">
            <a:noFill/>
          </a:ln>
          <a:effectLst>
            <a:outerShdw dist="17819" dir="2700000" blurRad="0" rotWithShape="0">
              <a:srgbClr val="997a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ost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24"/>
              </a:spcBef>
              <a:buClr>
                <a:srgbClr val="c0504d"/>
              </a:buClr>
              <a:buFont typeface="Arial"/>
              <a:buChar char="•"/>
              <a:tabLst>
                <a:tab algn="l" pos="326232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504d"/>
                </a:solidFill>
                <a:latin typeface="Calibri"/>
              </a:rPr>
              <a:t>Example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: ellington.cs.virginia.edu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326232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326232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326232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326232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326232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Network address is: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ourier New"/>
              </a:rPr>
              <a:t>128.143.0.0 (or 128.143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326232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ost number is: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ourier New"/>
              </a:rPr>
              <a:t>137.144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326232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Netmask is: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ourier New"/>
              </a:rPr>
              <a:t>255.255.0.0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(or   </a:t>
            </a:r>
            <a:r>
              <a:rPr b="1" lang="en-US" sz="2500" spc="-1" strike="noStrike">
                <a:solidFill>
                  <a:srgbClr val="000000"/>
                </a:solidFill>
                <a:latin typeface="Courier New"/>
              </a:rPr>
              <a:t>ffff0000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326232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326232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refix or CIDR notation: </a:t>
            </a:r>
            <a:r>
              <a:rPr b="1" lang="en-US" sz="2500" spc="-1" strike="noStrike">
                <a:solidFill>
                  <a:srgbClr val="ff0000"/>
                </a:solidFill>
                <a:latin typeface="Courier New"/>
              </a:rPr>
              <a:t>128.143.137.144/16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4" marL="1974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26232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974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26232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twork prefix  is 16 bits lo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1523880" y="2209680"/>
            <a:ext cx="3048120" cy="53352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28.1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4572000" y="2209680"/>
            <a:ext cx="3048120" cy="533520"/>
          </a:xfrm>
          <a:prstGeom prst="rect">
            <a:avLst/>
          </a:prstGeom>
          <a:solidFill>
            <a:srgbClr val="ffcc66"/>
          </a:solidFill>
          <a:ln w="0">
            <a:noFill/>
          </a:ln>
          <a:effectLst>
            <a:outerShdw dist="17819" dir="2700000" blurRad="0" rotWithShape="0">
              <a:srgbClr val="997a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37.1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1" name="Straight Arrow Connector 6"/>
          <p:cNvCxnSpPr/>
          <p:nvPr/>
        </p:nvCxnSpPr>
        <p:spPr>
          <a:xfrm flipV="1">
            <a:off x="5929200" y="5285520"/>
            <a:ext cx="1215360" cy="429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843EF-F530-4296-9A39-AB1E5A13E8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two parts? For routing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outers must select next hop for packe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et route information from other routers via a routing protocol (RIP, OSPF, EIGRP etc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tore routing information in a tabl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 the simplest form,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each network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as one entry in the tab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ote the following are non-routabl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ivate networks: 10.0.0.0/8, 172.16.0.0/12, 192.168.0.0/16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oopback 127.0.0.0/24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ming up: using two address par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ext we will cover these addressing issu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ld-style address splitting: A, B, C, D, E class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pecial and reserved address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ivate address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ubnetting:  host number may again be split into (local) subnet and host number in this subne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odern address splitting: CIDR (classless interdomain routing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rief intro to IPv6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o creates internet standard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plication level (not in course scop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3C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jor software vend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et level (data transmission, this cours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ETF (internet engineering task for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net Architecture Board (IAB), IASA, IRTF,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jor router vend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ministrative organisations (IANA, RIPE, .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et Address Cla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380880" y="4267080"/>
            <a:ext cx="83822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9" name="Object 2"/>
          <p:cNvGraphicFramePr/>
          <p:nvPr/>
        </p:nvGraphicFramePr>
        <p:xfrm>
          <a:off x="152280" y="1752480"/>
          <a:ext cx="8820360" cy="450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752480"/>
                    <a:ext cx="8820360" cy="45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/>
          <p:cNvSpPr/>
          <p:nvPr/>
        </p:nvSpPr>
        <p:spPr>
          <a:xfrm>
            <a:off x="380880" y="4267080"/>
            <a:ext cx="83822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Object 2"/>
          <p:cNvGraphicFramePr/>
          <p:nvPr/>
        </p:nvGraphicFramePr>
        <p:xfrm>
          <a:off x="0" y="1523880"/>
          <a:ext cx="8823240" cy="264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23880"/>
                    <a:ext cx="8823240" cy="264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et Address Cla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o has A,B,C addresse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 clas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IANA, APNIC, RIPE, legacy (US military, Xerox, IBM, Apple, Ford, ...). See http://www.iana.org/assignments/ipv4-address-space for the full li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 clas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organisations with clear need (more than 32 subnets, more than 4096 hosts): very hard to g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 clas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all others, assigned hierarchically. Lower half of space divided regionall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92.0.0 - 193.255.255 Multi-region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94.0.0 - 195.255.255 Euro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96.0.0 - 197.255.255 Other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98.0.0 - 199.255.255 North Americ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00.0.0 - 201.255.255 Central and South Americ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02.0.0 - 203.255.255 Pacific Ri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04.0.0 - 205.255.255 Other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06.0.0 - 207.255.255 Other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08.0.0 - 209.255.255 ARIN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10.0.0 - 211.255.255 APNI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1F877-E952-4108-A91E-EFE34BBD0F2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0" y="15192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  <a:ea typeface="Arial"/>
              </a:rPr>
              <a:t>Class summa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0" name="Object 2"/>
          <p:cNvGraphicFramePr/>
          <p:nvPr/>
        </p:nvGraphicFramePr>
        <p:xfrm>
          <a:off x="380880" y="4495680"/>
          <a:ext cx="8229600" cy="213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4495680"/>
                    <a:ext cx="8229600" cy="2132280"/>
                  </a:xfrm>
                  <a:prstGeom prst="rect">
                    <a:avLst/>
                  </a:prstGeom>
                  <a:ln w="9360">
                    <a:solidFill>
                      <a:srgbClr val="00808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62" name="Group 17"/>
          <p:cNvGrpSpPr/>
          <p:nvPr/>
        </p:nvGrpSpPr>
        <p:grpSpPr>
          <a:xfrm>
            <a:off x="0" y="609480"/>
            <a:ext cx="8915040" cy="1828800"/>
            <a:chOff x="0" y="609480"/>
            <a:chExt cx="8915040" cy="1828800"/>
          </a:xfrm>
        </p:grpSpPr>
        <p:grpSp>
          <p:nvGrpSpPr>
            <p:cNvPr id="263" name="Group 9"/>
            <p:cNvGrpSpPr/>
            <p:nvPr/>
          </p:nvGrpSpPr>
          <p:grpSpPr>
            <a:xfrm>
              <a:off x="3581280" y="609480"/>
              <a:ext cx="5333760" cy="1828800"/>
              <a:chOff x="3581280" y="609480"/>
              <a:chExt cx="5333760" cy="1828800"/>
            </a:xfrm>
          </p:grpSpPr>
          <p:graphicFrame>
            <p:nvGraphicFramePr>
              <p:cNvPr id="264" name="Object 5"/>
              <p:cNvGraphicFramePr/>
              <p:nvPr/>
            </p:nvGraphicFramePr>
            <p:xfrm>
              <a:off x="3609720" y="609480"/>
              <a:ext cx="5267520" cy="6094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65" name="Object 5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609720" y="609480"/>
                        <a:ext cx="5267520" cy="609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66" name="Object 6"/>
              <p:cNvGraphicFramePr/>
              <p:nvPr/>
            </p:nvGraphicFramePr>
            <p:xfrm>
              <a:off x="3600360" y="1218960"/>
              <a:ext cx="5276880" cy="61920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267" name="Object 6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3600360" y="1218960"/>
                        <a:ext cx="5276880" cy="619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68" name="Object 7"/>
              <p:cNvGraphicFramePr/>
              <p:nvPr/>
            </p:nvGraphicFramePr>
            <p:xfrm>
              <a:off x="3581280" y="1836360"/>
              <a:ext cx="5295960" cy="57312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269" name="Object 7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3581280" y="1836360"/>
                        <a:ext cx="5295960" cy="573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70" name="Rectangle 8"/>
              <p:cNvSpPr/>
              <p:nvPr/>
            </p:nvSpPr>
            <p:spPr>
              <a:xfrm>
                <a:off x="3581280" y="609480"/>
                <a:ext cx="5333760" cy="1828800"/>
              </a:xfrm>
              <a:prstGeom prst="rect">
                <a:avLst/>
              </a:prstGeom>
              <a:noFill/>
              <a:ln w="38160">
                <a:solidFill>
                  <a:srgbClr val="eeec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1" name="Text Box 10"/>
            <p:cNvSpPr/>
            <p:nvPr/>
          </p:nvSpPr>
          <p:spPr>
            <a:xfrm>
              <a:off x="0" y="1143000"/>
              <a:ext cx="3657600" cy="11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P addresses are divided into classes A,B and C to define large, medium, and small networks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Group 21"/>
          <p:cNvGrpSpPr/>
          <p:nvPr/>
        </p:nvGrpSpPr>
        <p:grpSpPr>
          <a:xfrm>
            <a:off x="0" y="2514600"/>
            <a:ext cx="8915040" cy="1676520"/>
            <a:chOff x="0" y="2514600"/>
            <a:chExt cx="8915040" cy="1676520"/>
          </a:xfrm>
        </p:grpSpPr>
        <p:grpSp>
          <p:nvGrpSpPr>
            <p:cNvPr id="273" name="Group 16"/>
            <p:cNvGrpSpPr/>
            <p:nvPr/>
          </p:nvGrpSpPr>
          <p:grpSpPr>
            <a:xfrm>
              <a:off x="3581280" y="2743200"/>
              <a:ext cx="5333760" cy="1447920"/>
              <a:chOff x="3581280" y="2743200"/>
              <a:chExt cx="5333760" cy="1447920"/>
            </a:xfrm>
          </p:grpSpPr>
          <p:graphicFrame>
            <p:nvGraphicFramePr>
              <p:cNvPr id="274" name="Object 3"/>
              <p:cNvGraphicFramePr/>
              <p:nvPr/>
            </p:nvGraphicFramePr>
            <p:xfrm>
              <a:off x="3581280" y="2743200"/>
              <a:ext cx="5333760" cy="71424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275" name="Object 3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581280" y="2743200"/>
                        <a:ext cx="5333760" cy="714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76" name="Object 4"/>
              <p:cNvGraphicFramePr/>
              <p:nvPr/>
            </p:nvGraphicFramePr>
            <p:xfrm>
              <a:off x="3581280" y="3429000"/>
              <a:ext cx="5324400" cy="73332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277" name="Object 4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3581280" y="3429000"/>
                        <a:ext cx="5324400" cy="733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78" name="Rectangle 14"/>
              <p:cNvSpPr/>
              <p:nvPr/>
            </p:nvSpPr>
            <p:spPr>
              <a:xfrm>
                <a:off x="3581280" y="2743200"/>
                <a:ext cx="5295600" cy="1447920"/>
              </a:xfrm>
              <a:prstGeom prst="rect">
                <a:avLst/>
              </a:prstGeom>
              <a:noFill/>
              <a:ln w="38160">
                <a:solidFill>
                  <a:srgbClr val="eeec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Rectangle 18"/>
            <p:cNvSpPr/>
            <p:nvPr/>
          </p:nvSpPr>
          <p:spPr>
            <a:xfrm>
              <a:off x="0" y="2514600"/>
              <a:ext cx="35053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he Class D address class was created to enable multicasting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20"/>
            <p:cNvSpPr/>
            <p:nvPr/>
          </p:nvSpPr>
          <p:spPr>
            <a:xfrm>
              <a:off x="0" y="3505320"/>
              <a:ext cx="327672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ETF</a:t>
              </a: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serves Class E addresses for its own research</a:t>
              </a: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610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pecial IP adr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5760" y="1071360"/>
            <a:ext cx="833112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2003400"/>
                <a:tab algn="l" pos="2967120"/>
                <a:tab algn="l" pos="3602160"/>
                <a:tab algn="l" pos="6229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003400"/>
                <a:tab algn="l" pos="2967120"/>
                <a:tab algn="l" pos="3602160"/>
                <a:tab algn="l" pos="6229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back interfaces  (packet sent back to sen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2003400"/>
                <a:tab algn="l" pos="2967120"/>
                <a:tab algn="l" pos="3602160"/>
                <a:tab algn="l" pos="6229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003400"/>
                <a:tab algn="l" pos="2967120"/>
                <a:tab algn="l" pos="3602160"/>
                <a:tab algn="l" pos="6229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addresses   127.0.0.1   -  127.255.255.25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003400"/>
                <a:tab algn="l" pos="2967120"/>
                <a:tab algn="l" pos="3602160"/>
                <a:tab algn="l" pos="6229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st systems use 127.0.0.1 as loopback addr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003400"/>
                <a:tab algn="l" pos="2967120"/>
                <a:tab algn="l" pos="3602160"/>
                <a:tab algn="l" pos="6229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opback interface is associated with name “localhost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2003400"/>
                <a:tab algn="l" pos="2967120"/>
                <a:tab algn="l" pos="3602160"/>
                <a:tab algn="l" pos="6229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003400"/>
                <a:tab algn="l" pos="2967120"/>
                <a:tab algn="l" pos="3602160"/>
                <a:tab algn="l" pos="6229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st / Experimental address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2003400"/>
                <a:tab algn="l" pos="2967120"/>
                <a:tab algn="l" pos="3602160"/>
                <a:tab algn="l" pos="6229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rtain address ranges are reserved for “experimental use”. Packets should get dropped if they contain this destination address (see RFC 3330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2003400"/>
                <a:tab algn="l" pos="2967120"/>
                <a:tab algn="l" pos="3602160"/>
                <a:tab algn="l" pos="6229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0">
              <a:lnSpc>
                <a:spcPct val="60000"/>
              </a:lnSpc>
              <a:spcBef>
                <a:spcPts val="476"/>
              </a:spcBef>
              <a:buNone/>
              <a:tabLst>
                <a:tab algn="l" pos="0"/>
                <a:tab algn="l" pos="2003400"/>
                <a:tab algn="l" pos="2967120"/>
                <a:tab algn="l" pos="3602160"/>
                <a:tab algn="l" pos="6229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128.0.0.0-128.0.255.255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0">
              <a:lnSpc>
                <a:spcPct val="60000"/>
              </a:lnSpc>
              <a:spcBef>
                <a:spcPts val="476"/>
              </a:spcBef>
              <a:buNone/>
              <a:tabLst>
                <a:tab algn="l" pos="0"/>
                <a:tab algn="l" pos="2003400"/>
                <a:tab algn="l" pos="2967120"/>
                <a:tab algn="l" pos="3602160"/>
                <a:tab algn="l" pos="6229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191.255.0.0-191.255.255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0">
              <a:lnSpc>
                <a:spcPct val="60000"/>
              </a:lnSpc>
              <a:spcBef>
                <a:spcPts val="476"/>
              </a:spcBef>
              <a:buNone/>
              <a:tabLst>
                <a:tab algn="l" pos="0"/>
                <a:tab algn="l" pos="2003400"/>
                <a:tab algn="l" pos="2967120"/>
                <a:tab algn="l" pos="3602160"/>
                <a:tab algn="l" pos="6229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192.0.0.0-192.0.0.255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0">
              <a:lnSpc>
                <a:spcPct val="60000"/>
              </a:lnSpc>
              <a:spcBef>
                <a:spcPts val="476"/>
              </a:spcBef>
              <a:buNone/>
              <a:tabLst>
                <a:tab algn="l" pos="0"/>
                <a:tab algn="l" pos="2003400"/>
                <a:tab algn="l" pos="2967120"/>
                <a:tab algn="l" pos="3602160"/>
                <a:tab algn="l" pos="6229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192.0.2.0-192.0.2.255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0">
              <a:lnSpc>
                <a:spcPct val="60000"/>
              </a:lnSpc>
              <a:spcBef>
                <a:spcPts val="476"/>
              </a:spcBef>
              <a:buNone/>
              <a:tabLst>
                <a:tab algn="l" pos="0"/>
                <a:tab algn="l" pos="2003400"/>
                <a:tab algn="l" pos="2967120"/>
                <a:tab algn="l" pos="3602160"/>
                <a:tab algn="l" pos="6229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223.255.255.0-223.255.255.255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0">
              <a:lnSpc>
                <a:spcPct val="60000"/>
              </a:lnSpc>
              <a:spcBef>
                <a:spcPts val="476"/>
              </a:spcBef>
              <a:buNone/>
              <a:tabLst>
                <a:tab algn="l" pos="0"/>
                <a:tab algn="l" pos="2003400"/>
                <a:tab algn="l" pos="2967120"/>
                <a:tab algn="l" pos="3602160"/>
                <a:tab algn="l" pos="6229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240.0.0.0-240.0.0.255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2003400"/>
                <a:tab algn="l" pos="2967120"/>
                <a:tab algn="l" pos="3602160"/>
                <a:tab algn="l" pos="6229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610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erved IP Address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6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rtain host addresses are reserved and cannot be assigned to devices on a network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 IP address that has binary 0s in all host bit positions is reserved for th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etwork addres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 IP address that has binary 1s in all host bit positions is reserved for th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roadcast addr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5" name="Picture 5" descr=""/>
          <p:cNvPicPr/>
          <p:nvPr/>
        </p:nvPicPr>
        <p:blipFill>
          <a:blip r:embed="rId1"/>
          <a:stretch/>
        </p:blipFill>
        <p:spPr>
          <a:xfrm>
            <a:off x="4552920" y="2714760"/>
            <a:ext cx="459108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500"/>
                            </p:stCondLst>
                            <p:childTnLst>
                              <p:par>
                                <p:cTn id="2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610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erved as private addr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0040" y="1428480"/>
            <a:ext cx="807264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se ranges are not routable outside of private networks, and private machines cannot directly communicate with public networks. They can, however, do so through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network address transla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NAT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ame                  IP address range                        number  of IPs  largest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CIDR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block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4-bit block        10.0.0.0 – 10.255.255.255       16,777,216         10.0.0.0/8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-bit block   172.16.0.0 – 172.31.255.255          1,048,576       172.16.0.0/12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6-bit block   169.254.0.0 – 169.254.255.255    65,536 256      169.254.0.0/16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6-bit block   192.168.0.0 – 192.168.255.255    65,536 256      192.168.0.0/16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ranges 10.0.0.0/8, 172.16.0.0/12, and 192.168.0.0/16 are reserved for private networking by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RFC 1918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169.254.0.0/16 range is reserved for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Link-Local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ddressing as defined in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RFC 3927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2"/>
          <p:cNvGrpSpPr/>
          <p:nvPr/>
        </p:nvGrpSpPr>
        <p:grpSpPr>
          <a:xfrm>
            <a:off x="304920" y="4876920"/>
            <a:ext cx="7753320" cy="1218960"/>
            <a:chOff x="304920" y="4876920"/>
            <a:chExt cx="7753320" cy="1218960"/>
          </a:xfrm>
        </p:grpSpPr>
        <p:grpSp>
          <p:nvGrpSpPr>
            <p:cNvPr id="289" name="Group 3"/>
            <p:cNvGrpSpPr/>
            <p:nvPr/>
          </p:nvGrpSpPr>
          <p:grpSpPr>
            <a:xfrm>
              <a:off x="304920" y="4876920"/>
              <a:ext cx="5562360" cy="1218960"/>
              <a:chOff x="304920" y="4876920"/>
              <a:chExt cx="5562360" cy="1218960"/>
            </a:xfrm>
          </p:grpSpPr>
          <p:sp>
            <p:nvSpPr>
              <p:cNvPr id="290" name="Rectangle 4"/>
              <p:cNvSpPr/>
              <p:nvPr/>
            </p:nvSpPr>
            <p:spPr>
              <a:xfrm>
                <a:off x="304920" y="4876920"/>
                <a:ext cx="4267080" cy="12189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AutoShape 5"/>
              <p:cNvSpPr/>
              <p:nvPr/>
            </p:nvSpPr>
            <p:spPr>
              <a:xfrm>
                <a:off x="4724280" y="5486040"/>
                <a:ext cx="1143000" cy="228240"/>
              </a:xfrm>
              <a:prstGeom prst="rightArrow">
                <a:avLst>
                  <a:gd name="adj1" fmla="val 50000"/>
                  <a:gd name="adj2" fmla="val 125197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2" name="Text Box 6"/>
            <p:cNvSpPr/>
            <p:nvPr/>
          </p:nvSpPr>
          <p:spPr>
            <a:xfrm>
              <a:off x="6000840" y="542916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Subnet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net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4419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85760"/>
                <a:tab algn="l" pos="1428840"/>
                <a:tab algn="l" pos="251460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blem</a:t>
            </a:r>
            <a:r>
              <a:rPr b="0" lang="en-US" sz="2400" spc="-1" strike="noStrike">
                <a:solidFill>
                  <a:srgbClr val="c0504d"/>
                </a:solidFill>
                <a:latin typeface="Calibri"/>
              </a:rPr>
              <a:t>: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Organizations have multiple networks which are independently manag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85760"/>
                <a:tab algn="l" pos="1428840"/>
                <a:tab algn="l" pos="251460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olution 1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llocate a separate network address for each net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85760"/>
                <a:tab algn="l" pos="1428840"/>
                <a:tab algn="l" pos="251460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fficult to man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85760"/>
                <a:tab algn="l" pos="1428840"/>
                <a:tab algn="l" pos="251460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om the outside of the organization, each network must be addressab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85760"/>
                <a:tab algn="l" pos="1428840"/>
                <a:tab algn="l" pos="251460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olution 2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dd another level of hierarchy to the IP addressing struc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085760"/>
                <a:tab algn="l" pos="1428840"/>
                <a:tab algn="l" pos="251460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Oval 9"/>
          <p:cNvSpPr/>
          <p:nvPr/>
        </p:nvSpPr>
        <p:spPr>
          <a:xfrm>
            <a:off x="4343400" y="1371600"/>
            <a:ext cx="4572000" cy="31240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0" tIns="46800" bIns="46800" anchor="t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10"/>
          <p:cNvSpPr/>
          <p:nvPr/>
        </p:nvSpPr>
        <p:spPr>
          <a:xfrm>
            <a:off x="6705720" y="2362320"/>
            <a:ext cx="1904760" cy="99036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ffcc66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11"/>
          <p:cNvSpPr/>
          <p:nvPr/>
        </p:nvSpPr>
        <p:spPr>
          <a:xfrm>
            <a:off x="5791320" y="3276720"/>
            <a:ext cx="1904760" cy="99036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ffcc66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br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12"/>
          <p:cNvSpPr/>
          <p:nvPr/>
        </p:nvSpPr>
        <p:spPr>
          <a:xfrm>
            <a:off x="4495680" y="2286000"/>
            <a:ext cx="1905120" cy="99072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ffcc66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228240" y="1295280"/>
            <a:ext cx="89154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ch part of the organization is allocated a range of IP addresses (subnets or subnetwork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resses in each subnet can be administered local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dress assignment with subne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Oval 7"/>
          <p:cNvSpPr/>
          <p:nvPr/>
        </p:nvSpPr>
        <p:spPr>
          <a:xfrm>
            <a:off x="2666880" y="2666880"/>
            <a:ext cx="4572000" cy="31244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0" tIns="46800" bIns="46800" anchor="t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8"/>
          <p:cNvSpPr/>
          <p:nvPr/>
        </p:nvSpPr>
        <p:spPr>
          <a:xfrm>
            <a:off x="5029200" y="3657600"/>
            <a:ext cx="1905120" cy="99072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ffcc66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9"/>
          <p:cNvSpPr/>
          <p:nvPr/>
        </p:nvSpPr>
        <p:spPr>
          <a:xfrm>
            <a:off x="4114800" y="4572000"/>
            <a:ext cx="1905120" cy="99072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ffcc66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br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0"/>
          <p:cNvSpPr/>
          <p:nvPr/>
        </p:nvSpPr>
        <p:spPr>
          <a:xfrm>
            <a:off x="2819520" y="3581280"/>
            <a:ext cx="1904760" cy="99072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ffcc66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6"/>
          <p:cNvSpPr/>
          <p:nvPr/>
        </p:nvSpPr>
        <p:spPr>
          <a:xfrm>
            <a:off x="4038480" y="2819520"/>
            <a:ext cx="1676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28.143.0.0/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1"/>
          <p:cNvSpPr/>
          <p:nvPr/>
        </p:nvSpPr>
        <p:spPr>
          <a:xfrm>
            <a:off x="428760" y="3714840"/>
            <a:ext cx="2057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28.143.71.0/24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28.143.136.0/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2"/>
          <p:cNvSpPr/>
          <p:nvPr/>
        </p:nvSpPr>
        <p:spPr>
          <a:xfrm>
            <a:off x="7086600" y="3357720"/>
            <a:ext cx="2057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28.143.56.0/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3"/>
          <p:cNvSpPr/>
          <p:nvPr/>
        </p:nvSpPr>
        <p:spPr>
          <a:xfrm>
            <a:off x="5643720" y="5857920"/>
            <a:ext cx="2057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28.143.121.0/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ic Idea of Subnet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51920" y="121932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057400"/>
                <a:tab algn="l" pos="228600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lit the host number portion of an IP address into a </a:t>
            </a:r>
            <a:r>
              <a:rPr b="1" lang="en-US" sz="2400" spc="-1" strike="noStrike">
                <a:solidFill>
                  <a:srgbClr val="c0504d"/>
                </a:solidFill>
                <a:latin typeface="Courier New"/>
              </a:rPr>
              <a:t>subnet numbe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a (smaller) </a:t>
            </a:r>
            <a:r>
              <a:rPr b="1" lang="en-US" sz="2400" spc="-1" strike="noStrike">
                <a:solidFill>
                  <a:srgbClr val="c0504d"/>
                </a:solidFill>
                <a:latin typeface="Courier New"/>
              </a:rPr>
              <a:t>host number</a:t>
            </a:r>
            <a:r>
              <a:rPr b="0" lang="en-US" sz="2400" spc="-1" strike="noStrike">
                <a:solidFill>
                  <a:srgbClr val="c0504d"/>
                </a:solidFill>
                <a:latin typeface="Calibri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057400"/>
                <a:tab algn="l" pos="228600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ult is a 3-layer hierarch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2057400"/>
                <a:tab algn="l" pos="228600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2057400"/>
                <a:tab algn="l" pos="228600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2057400"/>
                <a:tab algn="l" pos="228600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2057400"/>
                <a:tab algn="l" pos="228600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2057400"/>
                <a:tab algn="l" pos="228600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2057400"/>
                <a:tab algn="l" pos="228600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2057400"/>
                <a:tab algn="l" pos="228600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Then: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057400"/>
                <a:tab algn="l" pos="228600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nets can be freely assigned within the organ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057400"/>
                <a:tab algn="l" pos="228600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nally, subnets are treated as separate networ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057400"/>
                <a:tab algn="l" pos="228600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net structure is not visible outside the organ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Rectangle 4"/>
          <p:cNvSpPr/>
          <p:nvPr/>
        </p:nvSpPr>
        <p:spPr>
          <a:xfrm>
            <a:off x="1295280" y="2666880"/>
            <a:ext cx="3048120" cy="53352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twork pref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5"/>
          <p:cNvSpPr/>
          <p:nvPr/>
        </p:nvSpPr>
        <p:spPr>
          <a:xfrm>
            <a:off x="4419720" y="2666880"/>
            <a:ext cx="4190760" cy="533520"/>
          </a:xfrm>
          <a:prstGeom prst="rect">
            <a:avLst/>
          </a:prstGeom>
          <a:solidFill>
            <a:srgbClr val="ffcc66"/>
          </a:solidFill>
          <a:ln w="0">
            <a:noFill/>
          </a:ln>
          <a:effectLst>
            <a:outerShdw dist="17819" dir="2700000" blurRad="0" rotWithShape="0">
              <a:srgbClr val="997a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ost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6"/>
          <p:cNvSpPr/>
          <p:nvPr/>
        </p:nvSpPr>
        <p:spPr>
          <a:xfrm>
            <a:off x="4419720" y="3809880"/>
            <a:ext cx="2057400" cy="53352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bnet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7"/>
          <p:cNvSpPr/>
          <p:nvPr/>
        </p:nvSpPr>
        <p:spPr>
          <a:xfrm>
            <a:off x="1295280" y="3809880"/>
            <a:ext cx="3048120" cy="53352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twork pref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8"/>
          <p:cNvSpPr/>
          <p:nvPr/>
        </p:nvSpPr>
        <p:spPr>
          <a:xfrm>
            <a:off x="6553080" y="3809880"/>
            <a:ext cx="2057400" cy="533520"/>
          </a:xfrm>
          <a:prstGeom prst="rect">
            <a:avLst/>
          </a:prstGeom>
          <a:solidFill>
            <a:srgbClr val="ffcc66"/>
          </a:solidFill>
          <a:ln w="0">
            <a:noFill/>
          </a:ln>
          <a:effectLst>
            <a:outerShdw dist="17819" dir="2700000" blurRad="0" rotWithShape="0">
              <a:srgbClr val="997a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ost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9"/>
          <p:cNvSpPr/>
          <p:nvPr/>
        </p:nvSpPr>
        <p:spPr>
          <a:xfrm flipH="1">
            <a:off x="5866920" y="3276720"/>
            <a:ext cx="68580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10"/>
          <p:cNvSpPr/>
          <p:nvPr/>
        </p:nvSpPr>
        <p:spPr>
          <a:xfrm>
            <a:off x="6553080" y="3276720"/>
            <a:ext cx="68580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11"/>
          <p:cNvSpPr/>
          <p:nvPr/>
        </p:nvSpPr>
        <p:spPr>
          <a:xfrm>
            <a:off x="1295280" y="4495680"/>
            <a:ext cx="51818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2"/>
          <p:cNvSpPr/>
          <p:nvPr/>
        </p:nvSpPr>
        <p:spPr>
          <a:xfrm>
            <a:off x="1981080" y="449568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tended network pref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urse organis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actical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tailed plan of lectures and labs will be created/tuned during the course, depending 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ckground of stud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eed of grasping the princip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gress of lab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151920" y="1371240"/>
            <a:ext cx="8915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uters and hosts use an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extended network prefix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subnetmask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o identify the start of the host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netmas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6"/>
          <p:cNvSpPr/>
          <p:nvPr/>
        </p:nvSpPr>
        <p:spPr>
          <a:xfrm>
            <a:off x="0" y="18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3" name="Object 2"/>
          <p:cNvGraphicFramePr/>
          <p:nvPr/>
        </p:nvGraphicFramePr>
        <p:xfrm>
          <a:off x="2214720" y="2357280"/>
          <a:ext cx="5886360" cy="41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14720" y="2357280"/>
                    <a:ext cx="5886360" cy="41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dvantages of Subnetting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With subnetting, IP addresses use a 3-layer hierarchy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etwork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ubne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o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Reduces router complexity. Since external routers do not know about subnetting, the complexity of routing tables at external routers is reduce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Note: Length of the subnet mask need not be identical at all subnetwork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Subnetmas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28.143.0.0/16 is the IP address of the net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28.143.137.0/24 is the IP address of the subn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28.143.137.144  is the IP address of the h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55.255.255.0 (or ffffff00) is the subnetmask of the h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en subnetting is used, one generally speaks of a “subnetmask” (instead of a netmask) and a “subnet” (instead of a network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 of subnetting or length of the subnetmask if decided by the network administr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sistency of subnetmasks is responsibility of administr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 Subnet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hosts think that the other hosts are on the same net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2" name="Object 2"/>
          <p:cNvGraphicFramePr/>
          <p:nvPr/>
        </p:nvGraphicFramePr>
        <p:xfrm>
          <a:off x="609480" y="2743200"/>
          <a:ext cx="7848720" cy="267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743200"/>
                    <a:ext cx="7848720" cy="26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4" name="Object 2"/>
          <p:cNvGraphicFramePr/>
          <p:nvPr/>
        </p:nvGraphicFramePr>
        <p:xfrm>
          <a:off x="609480" y="2743200"/>
          <a:ext cx="7953480" cy="270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743200"/>
                    <a:ext cx="7953480" cy="27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h Subnet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sts with same extended network prefix belong to the same network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7"/>
          <p:cNvSpPr/>
          <p:nvPr/>
        </p:nvSpPr>
        <p:spPr>
          <a:xfrm>
            <a:off x="0" y="250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fferent subnetmasks lead to different views of the size of the scope of the net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41" name="Object 2"/>
          <p:cNvGraphicFramePr/>
          <p:nvPr/>
        </p:nvGraphicFramePr>
        <p:xfrm>
          <a:off x="609480" y="2666880"/>
          <a:ext cx="8218440" cy="279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666880"/>
                    <a:ext cx="8218440" cy="27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h Subnet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6"/>
          <p:cNvSpPr/>
          <p:nvPr/>
        </p:nvSpPr>
        <p:spPr>
          <a:xfrm>
            <a:off x="0" y="250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blems with Classful IP Address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 the early 1990s, the original classful address scheme had a number of probl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050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Calibri"/>
              </a:rPr>
              <a:t>Flat address space.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uting tables on the backbone Internet need to have an entry for each network address. When Class C networks were widely used, this created a problem. By the 1993, the size of the routing tables started to outgrow the capacity of rout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Other problem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050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504d"/>
                </a:solidFill>
                <a:latin typeface="Calibri"/>
              </a:rPr>
              <a:t>Too few network addresses for large networ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ass A and Class B addresses were go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050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504d"/>
                </a:solidFill>
                <a:latin typeface="Calibri"/>
              </a:rPr>
              <a:t>Limited flexibility for network addresses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ass A and B addresses are overkill (&gt;64,000 addresse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ass C address is insufficient (requires 40 Class C address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location of Classful Addr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0" name="Picture 3" descr="ipadf1"/>
          <p:cNvPicPr/>
          <p:nvPr/>
        </p:nvPicPr>
        <p:blipFill>
          <a:blip r:embed="rId1">
            <a:lum contrast="54000"/>
          </a:blip>
          <a:stretch/>
        </p:blipFill>
        <p:spPr>
          <a:xfrm>
            <a:off x="152280" y="1523880"/>
            <a:ext cx="8763120" cy="4589640"/>
          </a:xfrm>
          <a:prstGeom prst="rect">
            <a:avLst/>
          </a:prstGeom>
          <a:ln w="0">
            <a:noFill/>
          </a:ln>
        </p:spPr>
      </p:pic>
      <p:sp>
        <p:nvSpPr>
          <p:cNvPr id="351" name="Line 4"/>
          <p:cNvSpPr/>
          <p:nvPr/>
        </p:nvSpPr>
        <p:spPr>
          <a:xfrm>
            <a:off x="1752480" y="1981080"/>
            <a:ext cx="0" cy="297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5"/>
          <p:cNvSpPr/>
          <p:nvPr/>
        </p:nvSpPr>
        <p:spPr>
          <a:xfrm flipH="1">
            <a:off x="1752120" y="5029200"/>
            <a:ext cx="4496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IDR - Classless Interdomain Rout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7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P backbone routers have one routing table entry for each network address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7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ith subnetting, a backbone router only needs to know one entry for each Class A, B, or C network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s is acceptable for Class A and Class B network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7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US" sz="2200" spc="-1" strike="noStrike" baseline="30000">
                <a:solidFill>
                  <a:srgbClr val="ff0000"/>
                </a:solidFill>
                <a:latin typeface="Calibri"/>
              </a:rPr>
              <a:t>7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 = 128 Class A network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7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US" sz="2200" spc="-1" strike="noStrike" baseline="30000">
                <a:solidFill>
                  <a:srgbClr val="ff0000"/>
                </a:solidFill>
                <a:latin typeface="Calibri"/>
              </a:rPr>
              <a:t>14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 = 16,384 Class B network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7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But this is not acceptable for Class C network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7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US" sz="2200" spc="-1" strike="noStrike" baseline="30000">
                <a:solidFill>
                  <a:srgbClr val="ff0000"/>
                </a:solidFill>
                <a:latin typeface="Calibri"/>
              </a:rPr>
              <a:t>21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 =  2,097,152 Class C network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7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 1993, the size of the routing tables started to outgrow the capacity of route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7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onsequence: The Class-based assignment of IP addresses had to be abandoned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IDR - Classless Interdomain Rout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Goals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w interpretation of the IP address spac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tructure IP address assignments to increase efficien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mits route aggregation to minimize route table entri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Calibri"/>
              </a:rPr>
              <a:t>CIDR (Classless Interdomain routing)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bandons the notion of cla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Key Concept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c0504d"/>
                </a:solidFill>
                <a:latin typeface="Calibri"/>
              </a:rPr>
              <a:t>The length of the network prefix in the IP addresses is kept arbitra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050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504d"/>
                </a:solidFill>
                <a:latin typeface="Calibri"/>
              </a:rPr>
              <a:t>Consequence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ize of the network prefix must be provided with an IP addr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ckground assump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ssed a wide-scope networking course (f.ex based on Stalling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ssed a mid-level programming cour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ssed system administration course (Käärame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ghly recommended: passed a C cour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DR No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IDR notation of an IP addres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c0504d"/>
                </a:solidFill>
                <a:latin typeface="Calibri"/>
              </a:rPr>
              <a:t>192.0.2.0/1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"18" is the prefix length. It states that the first 18 bits are the network prefix of the address (and 14 bits are available for specific host address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IDR notation can replace the use of subnetmasks (but is more genera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P address 128.143.137.144 and subnetmask 255.255.255.0 becomes 128.143.137.144/2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IDR notation allows to drop trailing zeros of network address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c0504d"/>
                </a:solidFill>
                <a:latin typeface="Calibri"/>
              </a:rPr>
              <a:t>192.0.2.0/18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 be written as</a:t>
            </a:r>
            <a:r>
              <a:rPr b="1" lang="en-US" sz="2400" spc="-1" strike="noStrike">
                <a:solidFill>
                  <a:srgbClr val="c0504d"/>
                </a:solidFill>
                <a:latin typeface="Calibri"/>
              </a:rPr>
              <a:t> 192.0.2/1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do people still talk abo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IDR eliminates the concept of class A, B, and C networks and replaces it with a network prefi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isting classful network addresses are converted to CIDR address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504d"/>
                </a:solidFill>
                <a:latin typeface="Calibri"/>
              </a:rPr>
              <a:t>128.143.0.0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000" spc="-1" strike="noStrike">
                <a:solidFill>
                  <a:srgbClr val="c0504d"/>
                </a:solidFill>
                <a:latin typeface="Calibri"/>
              </a:rPr>
              <a:t>128.143.0.0/1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change has not affected many (previously existing) enterprise networ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ny network administrators (especially on university campuses) have not noticed the  change (and still talk about classes A,B,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(Note: CIDR was introduced with the role-out of BGPv4 as interdomain routing protocol.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DR address bloc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r" pos="480060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IDR notation can nicely express blocks of addre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r" pos="480060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locks are used when allocating IP addresses for a company and for routing tables (route aggreg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r" pos="480060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r" pos="480060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504d"/>
                </a:solidFill>
                <a:latin typeface="Calibri"/>
              </a:rPr>
              <a:t>CIDR Block Prefix                # of Host Address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r" pos="480060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/27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r" pos="480060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/26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r" pos="480060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/25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r" pos="480060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/24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r" pos="480060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/23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51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r" pos="480060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/22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1,02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r" pos="480060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/21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,048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r" pos="480060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/20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4,09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r" pos="480060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/19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8,19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r" pos="480060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/18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16,38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r" pos="480060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/17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32,768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r" pos="480060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/16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65,53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r" pos="480060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/15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131,07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r" pos="480060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/14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62,14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r" pos="480060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/13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524,288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DR and Address assign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ackbone ISPs obtain large block of IP addresses space and then reallocate portions of their address blocks to their customer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504d"/>
                </a:solidFill>
                <a:latin typeface="Calibri"/>
              </a:rPr>
              <a:t>Example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sume that an ISP owns the address block </a:t>
            </a:r>
            <a:r>
              <a:rPr b="0" lang="en-US" sz="2400" spc="-1" strike="noStrike">
                <a:solidFill>
                  <a:srgbClr val="c0504d"/>
                </a:solidFill>
                <a:latin typeface="Calibri"/>
              </a:rPr>
              <a:t>206.0.64.0/18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which represents 16,384 (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IP address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se a client requires 800 host addre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th classful addresses: need to assign a class B address (and waste ~64,700 addresses)  or four individual Class Cs (and introducing 4 new routes into the global Internet routing tabl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th CIDR: Assign a /22 block, e.g., 206.0.68.0/22, and allocated a block of 1,024 (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IP address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610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DR and Rou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504d"/>
                </a:solidFill>
                <a:latin typeface="Calibri"/>
              </a:rPr>
              <a:t>Aggregation</a:t>
            </a:r>
            <a:r>
              <a:rPr b="0" lang="en-US" sz="2200" spc="-1" strike="noStrike">
                <a:solidFill>
                  <a:srgbClr val="c0504d"/>
                </a:solidFill>
                <a:latin typeface="Calibri"/>
              </a:rPr>
              <a:t> of routing table entrie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28.143.0.0/16 and 128.144.0.0/16 are represented as 128.142.0.0/1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504d"/>
                </a:solidFill>
                <a:latin typeface="Calibri"/>
              </a:rPr>
              <a:t>Longest prefix match</a:t>
            </a:r>
            <a:r>
              <a:rPr b="0" lang="en-US" sz="2200" spc="-1" strike="noStrike">
                <a:solidFill>
                  <a:srgbClr val="c0504d"/>
                </a:solidFill>
                <a:latin typeface="Calibri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Routing table lookup finds the routing entry that matches the longest prefix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the outgoing interface for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28.143.137.0/24 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oute aggregation can be exploite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en IP address blocks are assigne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 an hierarchical fash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4857840" y="3429000"/>
          <a:ext cx="3962160" cy="1981080"/>
        </p:xfrm>
        <a:graphic>
          <a:graphicData uri="http://schemas.openxmlformats.org/drawingml/2006/table">
            <a:tbl>
              <a:tblPr/>
              <a:tblGrid>
                <a:gridCol w="2181240"/>
                <a:gridCol w="1780920"/>
              </a:tblGrid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5661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fi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5661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f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5661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8.0.0.0/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5661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face #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5661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8.128.0.0/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5661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rface #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5661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8.143.128.0/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5661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rface #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8" name="Text Box 43"/>
          <p:cNvSpPr/>
          <p:nvPr/>
        </p:nvSpPr>
        <p:spPr>
          <a:xfrm>
            <a:off x="5786280" y="564372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outing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Line 2"/>
          <p:cNvSpPr/>
          <p:nvPr/>
        </p:nvSpPr>
        <p:spPr>
          <a:xfrm flipV="1">
            <a:off x="1981080" y="2971800"/>
            <a:ext cx="175284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3"/>
          <p:cNvSpPr/>
          <p:nvPr/>
        </p:nvSpPr>
        <p:spPr>
          <a:xfrm flipV="1">
            <a:off x="5562720" y="2057400"/>
            <a:ext cx="175248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4"/>
          <p:cNvSpPr/>
          <p:nvPr/>
        </p:nvSpPr>
        <p:spPr>
          <a:xfrm>
            <a:off x="5715000" y="3505320"/>
            <a:ext cx="1523880" cy="761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5"/>
          <p:cNvSpPr/>
          <p:nvPr/>
        </p:nvSpPr>
        <p:spPr>
          <a:xfrm>
            <a:off x="7086600" y="4343400"/>
            <a:ext cx="380880" cy="1295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6"/>
          <p:cNvSpPr/>
          <p:nvPr/>
        </p:nvSpPr>
        <p:spPr>
          <a:xfrm flipH="1">
            <a:off x="5181480" y="4343400"/>
            <a:ext cx="1828800" cy="1371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DR and Routing Inform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5" name="Group 8"/>
          <p:cNvGrpSpPr/>
          <p:nvPr/>
        </p:nvGrpSpPr>
        <p:grpSpPr>
          <a:xfrm>
            <a:off x="-151200" y="1586160"/>
            <a:ext cx="4002120" cy="4780800"/>
            <a:chOff x="-151200" y="1586160"/>
            <a:chExt cx="4002120" cy="4780800"/>
          </a:xfrm>
        </p:grpSpPr>
        <p:sp>
          <p:nvSpPr>
            <p:cNvPr id="376" name="Rectangle 9"/>
            <p:cNvSpPr/>
            <p:nvPr/>
          </p:nvSpPr>
          <p:spPr>
            <a:xfrm flipV="1">
              <a:off x="456480" y="3534120"/>
              <a:ext cx="2871000" cy="20484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Arc 10"/>
            <p:cNvSpPr/>
            <p:nvPr/>
          </p:nvSpPr>
          <p:spPr>
            <a:xfrm flipV="1">
              <a:off x="2087640" y="4453200"/>
              <a:ext cx="1554840" cy="1601640"/>
            </a:xfrm>
            <a:prstGeom prst="pie">
              <a:avLst/>
            </a:prstGeom>
            <a:solidFill>
              <a:srgbClr val="ffcc66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Arc 11"/>
            <p:cNvSpPr/>
            <p:nvPr/>
          </p:nvSpPr>
          <p:spPr>
            <a:xfrm flipV="1">
              <a:off x="120600" y="4721760"/>
              <a:ext cx="2218320" cy="1644840"/>
            </a:xfrm>
            <a:prstGeom prst="pie">
              <a:avLst/>
            </a:prstGeom>
            <a:solidFill>
              <a:srgbClr val="ffcc66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Arc 12"/>
            <p:cNvSpPr/>
            <p:nvPr/>
          </p:nvSpPr>
          <p:spPr>
            <a:xfrm flipV="1" rot="5400000">
              <a:off x="-841320" y="3744720"/>
              <a:ext cx="2363400" cy="680760"/>
            </a:xfrm>
            <a:prstGeom prst="pie">
              <a:avLst/>
            </a:prstGeom>
            <a:solidFill>
              <a:srgbClr val="ffcc66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Arc 13"/>
            <p:cNvSpPr/>
            <p:nvPr/>
          </p:nvSpPr>
          <p:spPr>
            <a:xfrm flipV="1" rot="8989200">
              <a:off x="259920" y="1836720"/>
              <a:ext cx="1387800" cy="2011680"/>
            </a:xfrm>
            <a:prstGeom prst="pie">
              <a:avLst/>
            </a:prstGeom>
            <a:solidFill>
              <a:srgbClr val="ffcc66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Arc 14"/>
            <p:cNvSpPr/>
            <p:nvPr/>
          </p:nvSpPr>
          <p:spPr>
            <a:xfrm flipV="1" rot="10583400">
              <a:off x="1172520" y="1643400"/>
              <a:ext cx="1892160" cy="2012040"/>
            </a:xfrm>
            <a:prstGeom prst="pie">
              <a:avLst/>
            </a:prstGeom>
            <a:solidFill>
              <a:srgbClr val="ffcc66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Arc 15"/>
            <p:cNvSpPr/>
            <p:nvPr/>
          </p:nvSpPr>
          <p:spPr>
            <a:xfrm flipV="1" rot="11694600">
              <a:off x="2608920" y="2992320"/>
              <a:ext cx="1047960" cy="1644840"/>
            </a:xfrm>
            <a:prstGeom prst="pie">
              <a:avLst/>
            </a:prstGeom>
            <a:solidFill>
              <a:srgbClr val="ffcc66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16"/>
            <p:cNvSpPr/>
            <p:nvPr/>
          </p:nvSpPr>
          <p:spPr>
            <a:xfrm flipV="1">
              <a:off x="587160" y="2588760"/>
              <a:ext cx="2348640" cy="20484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Group 17"/>
          <p:cNvGrpSpPr/>
          <p:nvPr/>
        </p:nvGrpSpPr>
        <p:grpSpPr>
          <a:xfrm>
            <a:off x="3352680" y="1460520"/>
            <a:ext cx="3290040" cy="2502000"/>
            <a:chOff x="3352680" y="1460520"/>
            <a:chExt cx="3290040" cy="2502000"/>
          </a:xfrm>
        </p:grpSpPr>
        <p:sp>
          <p:nvSpPr>
            <p:cNvPr id="385" name="Rectangle 18"/>
            <p:cNvSpPr/>
            <p:nvPr/>
          </p:nvSpPr>
          <p:spPr>
            <a:xfrm flipV="1">
              <a:off x="3751920" y="2545920"/>
              <a:ext cx="2512080" cy="102420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Arc 19"/>
            <p:cNvSpPr/>
            <p:nvPr/>
          </p:nvSpPr>
          <p:spPr>
            <a:xfrm flipV="1">
              <a:off x="5179320" y="3005280"/>
              <a:ext cx="1360440" cy="801000"/>
            </a:xfrm>
            <a:prstGeom prst="pie">
              <a:avLst/>
            </a:prstGeom>
            <a:solidFill>
              <a:srgbClr val="99ff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Arc 20"/>
            <p:cNvSpPr/>
            <p:nvPr/>
          </p:nvSpPr>
          <p:spPr>
            <a:xfrm flipV="1">
              <a:off x="3458160" y="3139560"/>
              <a:ext cx="1941120" cy="822600"/>
            </a:xfrm>
            <a:prstGeom prst="pie">
              <a:avLst/>
            </a:prstGeom>
            <a:solidFill>
              <a:srgbClr val="99ff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Arc 21"/>
            <p:cNvSpPr/>
            <p:nvPr/>
          </p:nvSpPr>
          <p:spPr>
            <a:xfrm flipV="1" rot="5400000">
              <a:off x="3059640" y="2523600"/>
              <a:ext cx="1181880" cy="595800"/>
            </a:xfrm>
            <a:prstGeom prst="pie">
              <a:avLst/>
            </a:prstGeom>
            <a:solidFill>
              <a:srgbClr val="99ff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Arc 22"/>
            <p:cNvSpPr/>
            <p:nvPr/>
          </p:nvSpPr>
          <p:spPr>
            <a:xfrm flipV="1" rot="8989200">
              <a:off x="3579840" y="1697040"/>
              <a:ext cx="1214280" cy="1005840"/>
            </a:xfrm>
            <a:prstGeom prst="pie">
              <a:avLst/>
            </a:prstGeom>
            <a:solidFill>
              <a:srgbClr val="99ff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Arc 23"/>
            <p:cNvSpPr/>
            <p:nvPr/>
          </p:nvSpPr>
          <p:spPr>
            <a:xfrm flipV="1" rot="10583400">
              <a:off x="4377960" y="1600560"/>
              <a:ext cx="1655640" cy="1005840"/>
            </a:xfrm>
            <a:prstGeom prst="pie">
              <a:avLst/>
            </a:prstGeom>
            <a:solidFill>
              <a:srgbClr val="99ff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Arc 24"/>
            <p:cNvSpPr/>
            <p:nvPr/>
          </p:nvSpPr>
          <p:spPr>
            <a:xfrm flipV="1" rot="11694600">
              <a:off x="5635440" y="2274480"/>
              <a:ext cx="916920" cy="822600"/>
            </a:xfrm>
            <a:prstGeom prst="pie">
              <a:avLst/>
            </a:prstGeom>
            <a:solidFill>
              <a:srgbClr val="99ff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25"/>
            <p:cNvSpPr/>
            <p:nvPr/>
          </p:nvSpPr>
          <p:spPr>
            <a:xfrm flipV="1">
              <a:off x="3866400" y="2072880"/>
              <a:ext cx="2055240" cy="102420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3" name="Rectangle 26"/>
          <p:cNvSpPr/>
          <p:nvPr/>
        </p:nvSpPr>
        <p:spPr>
          <a:xfrm>
            <a:off x="3809880" y="2666880"/>
            <a:ext cx="1752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504d"/>
                </a:solidFill>
                <a:latin typeface="Arial"/>
              </a:rPr>
              <a:t>206.0.64.0/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504d"/>
                </a:solidFill>
                <a:latin typeface="Arial"/>
              </a:rPr>
              <a:t>204.188.0.0/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504d"/>
                </a:solidFill>
                <a:latin typeface="Arial"/>
              </a:rPr>
              <a:t>209.88.232.0/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27"/>
          <p:cNvSpPr/>
          <p:nvPr/>
        </p:nvSpPr>
        <p:spPr>
          <a:xfrm>
            <a:off x="228600" y="32767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et Backb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28"/>
          <p:cNvSpPr/>
          <p:nvPr/>
        </p:nvSpPr>
        <p:spPr>
          <a:xfrm>
            <a:off x="3809880" y="220968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P X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w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Group 29"/>
          <p:cNvGrpSpPr/>
          <p:nvPr/>
        </p:nvGrpSpPr>
        <p:grpSpPr>
          <a:xfrm>
            <a:off x="6458040" y="1422360"/>
            <a:ext cx="2418840" cy="1493640"/>
            <a:chOff x="6458040" y="1422360"/>
            <a:chExt cx="2418840" cy="1493640"/>
          </a:xfrm>
        </p:grpSpPr>
        <p:sp>
          <p:nvSpPr>
            <p:cNvPr id="397" name="Rectangle 30"/>
            <p:cNvSpPr/>
            <p:nvPr/>
          </p:nvSpPr>
          <p:spPr>
            <a:xfrm flipV="1" rot="16200000">
              <a:off x="7464240" y="1609920"/>
              <a:ext cx="987120" cy="10407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Arc 31"/>
            <p:cNvSpPr/>
            <p:nvPr/>
          </p:nvSpPr>
          <p:spPr>
            <a:xfrm flipV="1" rot="16200000">
              <a:off x="8044200" y="1388520"/>
              <a:ext cx="534600" cy="813600"/>
            </a:xfrm>
            <a:prstGeom prst="pie">
              <a:avLst/>
            </a:prstGeom>
            <a:solidFill>
              <a:srgbClr val="0000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Arc 32"/>
            <p:cNvSpPr/>
            <p:nvPr/>
          </p:nvSpPr>
          <p:spPr>
            <a:xfrm flipV="1" rot="16200000">
              <a:off x="8077680" y="1940040"/>
              <a:ext cx="762840" cy="835560"/>
            </a:xfrm>
            <a:prstGeom prst="pie">
              <a:avLst/>
            </a:prstGeom>
            <a:solidFill>
              <a:srgbClr val="0000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Arc 33"/>
            <p:cNvSpPr/>
            <p:nvPr/>
          </p:nvSpPr>
          <p:spPr>
            <a:xfrm flipV="1">
              <a:off x="7117920" y="2547000"/>
              <a:ext cx="1200600" cy="234000"/>
            </a:xfrm>
            <a:prstGeom prst="pie">
              <a:avLst/>
            </a:prstGeom>
            <a:solidFill>
              <a:srgbClr val="0000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Arc 34"/>
            <p:cNvSpPr/>
            <p:nvPr/>
          </p:nvSpPr>
          <p:spPr>
            <a:xfrm flipV="1" rot="3588600">
              <a:off x="6848280" y="1941120"/>
              <a:ext cx="477000" cy="1022040"/>
            </a:xfrm>
            <a:prstGeom prst="pie">
              <a:avLst/>
            </a:prstGeom>
            <a:solidFill>
              <a:srgbClr val="0000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Arc 35"/>
            <p:cNvSpPr/>
            <p:nvPr/>
          </p:nvSpPr>
          <p:spPr>
            <a:xfrm flipV="1" rot="5182800">
              <a:off x="6663240" y="1540800"/>
              <a:ext cx="650520" cy="1022040"/>
            </a:xfrm>
            <a:prstGeom prst="pie">
              <a:avLst/>
            </a:prstGeom>
            <a:solidFill>
              <a:srgbClr val="0000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Arc 36"/>
            <p:cNvSpPr/>
            <p:nvPr/>
          </p:nvSpPr>
          <p:spPr>
            <a:xfrm flipV="1" rot="6294000">
              <a:off x="7400160" y="1285560"/>
              <a:ext cx="360360" cy="835560"/>
            </a:xfrm>
            <a:prstGeom prst="pie">
              <a:avLst/>
            </a:prstGeom>
            <a:solidFill>
              <a:srgbClr val="0000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ectangle 37"/>
            <p:cNvSpPr/>
            <p:nvPr/>
          </p:nvSpPr>
          <p:spPr>
            <a:xfrm flipV="1" rot="16200000">
              <a:off x="7074000" y="1654920"/>
              <a:ext cx="807480" cy="10407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Text Box 38"/>
          <p:cNvSpPr/>
          <p:nvPr/>
        </p:nvSpPr>
        <p:spPr>
          <a:xfrm>
            <a:off x="6781680" y="1828800"/>
            <a:ext cx="18288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ny X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504d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c0504d"/>
                </a:solidFill>
                <a:latin typeface="Arial"/>
              </a:rPr>
              <a:t>206.0.68.0/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Group 39"/>
          <p:cNvGrpSpPr/>
          <p:nvPr/>
        </p:nvGrpSpPr>
        <p:grpSpPr>
          <a:xfrm>
            <a:off x="6534000" y="3251160"/>
            <a:ext cx="2419560" cy="1494000"/>
            <a:chOff x="6534000" y="3251160"/>
            <a:chExt cx="2419560" cy="1494000"/>
          </a:xfrm>
        </p:grpSpPr>
        <p:sp>
          <p:nvSpPr>
            <p:cNvPr id="407" name="Rectangle 40"/>
            <p:cNvSpPr/>
            <p:nvPr/>
          </p:nvSpPr>
          <p:spPr>
            <a:xfrm flipV="1" rot="16200000">
              <a:off x="7540920" y="3438720"/>
              <a:ext cx="987120" cy="10407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Arc 41"/>
            <p:cNvSpPr/>
            <p:nvPr/>
          </p:nvSpPr>
          <p:spPr>
            <a:xfrm flipV="1" rot="16200000">
              <a:off x="8120880" y="3217320"/>
              <a:ext cx="534600" cy="813960"/>
            </a:xfrm>
            <a:prstGeom prst="pie">
              <a:avLst/>
            </a:prstGeom>
            <a:solidFill>
              <a:srgbClr val="0000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Arc 42"/>
            <p:cNvSpPr/>
            <p:nvPr/>
          </p:nvSpPr>
          <p:spPr>
            <a:xfrm flipV="1" rot="16200000">
              <a:off x="8154000" y="3768480"/>
              <a:ext cx="762840" cy="835920"/>
            </a:xfrm>
            <a:prstGeom prst="pie">
              <a:avLst/>
            </a:prstGeom>
            <a:solidFill>
              <a:srgbClr val="0000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Arc 43"/>
            <p:cNvSpPr/>
            <p:nvPr/>
          </p:nvSpPr>
          <p:spPr>
            <a:xfrm flipV="1">
              <a:off x="7193880" y="4375800"/>
              <a:ext cx="1200960" cy="234000"/>
            </a:xfrm>
            <a:prstGeom prst="pie">
              <a:avLst/>
            </a:prstGeom>
            <a:solidFill>
              <a:srgbClr val="0000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Arc 44"/>
            <p:cNvSpPr/>
            <p:nvPr/>
          </p:nvSpPr>
          <p:spPr>
            <a:xfrm flipV="1" rot="3588600">
              <a:off x="6924600" y="3770280"/>
              <a:ext cx="477000" cy="1022400"/>
            </a:xfrm>
            <a:prstGeom prst="pie">
              <a:avLst/>
            </a:prstGeom>
            <a:solidFill>
              <a:srgbClr val="0000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Arc 45"/>
            <p:cNvSpPr/>
            <p:nvPr/>
          </p:nvSpPr>
          <p:spPr>
            <a:xfrm flipV="1" rot="5182800">
              <a:off x="6739200" y="3369240"/>
              <a:ext cx="650520" cy="1022400"/>
            </a:xfrm>
            <a:prstGeom prst="pie">
              <a:avLst/>
            </a:prstGeom>
            <a:solidFill>
              <a:srgbClr val="0000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Arc 46"/>
            <p:cNvSpPr/>
            <p:nvPr/>
          </p:nvSpPr>
          <p:spPr>
            <a:xfrm flipV="1" rot="6294000">
              <a:off x="7476480" y="3115080"/>
              <a:ext cx="360360" cy="835920"/>
            </a:xfrm>
            <a:prstGeom prst="pie">
              <a:avLst/>
            </a:prstGeom>
            <a:solidFill>
              <a:srgbClr val="0000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47"/>
            <p:cNvSpPr/>
            <p:nvPr/>
          </p:nvSpPr>
          <p:spPr>
            <a:xfrm flipV="1" rot="16200000">
              <a:off x="7150680" y="3483720"/>
              <a:ext cx="807480" cy="10407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5" name="Text Box 48"/>
          <p:cNvSpPr/>
          <p:nvPr/>
        </p:nvSpPr>
        <p:spPr>
          <a:xfrm>
            <a:off x="6934320" y="3733920"/>
            <a:ext cx="1828800" cy="7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P y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504d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0504d"/>
                </a:solidFill>
                <a:latin typeface="Arial"/>
              </a:rPr>
              <a:t>209.88.237.0/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Group 49"/>
          <p:cNvGrpSpPr/>
          <p:nvPr/>
        </p:nvGrpSpPr>
        <p:grpSpPr>
          <a:xfrm>
            <a:off x="3607920" y="5136120"/>
            <a:ext cx="2335680" cy="1493280"/>
            <a:chOff x="3607920" y="5136120"/>
            <a:chExt cx="2335680" cy="1493280"/>
          </a:xfrm>
        </p:grpSpPr>
        <p:sp>
          <p:nvSpPr>
            <p:cNvPr id="417" name="Rectangle 50"/>
            <p:cNvSpPr/>
            <p:nvPr/>
          </p:nvSpPr>
          <p:spPr>
            <a:xfrm flipH="1" flipV="1">
              <a:off x="3864240" y="5807160"/>
              <a:ext cx="1794240" cy="5947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Arc 51"/>
            <p:cNvSpPr/>
            <p:nvPr/>
          </p:nvSpPr>
          <p:spPr>
            <a:xfrm flipH="1" flipV="1">
              <a:off x="3666960" y="6073920"/>
              <a:ext cx="971640" cy="46512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Arc 52"/>
            <p:cNvSpPr/>
            <p:nvPr/>
          </p:nvSpPr>
          <p:spPr>
            <a:xfrm flipH="1" flipV="1">
              <a:off x="4481640" y="6152040"/>
              <a:ext cx="1386360" cy="47736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Arc 53"/>
            <p:cNvSpPr/>
            <p:nvPr/>
          </p:nvSpPr>
          <p:spPr>
            <a:xfrm flipH="1" flipV="1" rot="16200000">
              <a:off x="5387760" y="5754240"/>
              <a:ext cx="686160" cy="42552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Arc 54"/>
            <p:cNvSpPr/>
            <p:nvPr/>
          </p:nvSpPr>
          <p:spPr>
            <a:xfrm flipH="1" flipV="1" rot="12610800">
              <a:off x="4913280" y="5313960"/>
              <a:ext cx="867240" cy="58392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Arc 55"/>
            <p:cNvSpPr/>
            <p:nvPr/>
          </p:nvSpPr>
          <p:spPr>
            <a:xfrm flipH="1" flipV="1" rot="11016600">
              <a:off x="4028040" y="5258160"/>
              <a:ext cx="1182600" cy="58392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Arc 56"/>
            <p:cNvSpPr/>
            <p:nvPr/>
          </p:nvSpPr>
          <p:spPr>
            <a:xfrm flipH="1" flipV="1" rot="9905400">
              <a:off x="3657960" y="5649120"/>
              <a:ext cx="654840" cy="47736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57"/>
            <p:cNvSpPr/>
            <p:nvPr/>
          </p:nvSpPr>
          <p:spPr>
            <a:xfrm flipH="1" flipV="1">
              <a:off x="4108680" y="5532480"/>
              <a:ext cx="1468080" cy="5947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5" name="Text Box 58"/>
          <p:cNvSpPr/>
          <p:nvPr/>
        </p:nvSpPr>
        <p:spPr>
          <a:xfrm>
            <a:off x="3809880" y="5638680"/>
            <a:ext cx="2133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ganization z1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504d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0504d"/>
                </a:solidFill>
                <a:latin typeface="Arial"/>
              </a:rPr>
              <a:t>209.88.237.192/2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6" name="Group 59"/>
          <p:cNvGrpSpPr/>
          <p:nvPr/>
        </p:nvGrpSpPr>
        <p:grpSpPr>
          <a:xfrm>
            <a:off x="6198840" y="5212440"/>
            <a:ext cx="2335680" cy="1493280"/>
            <a:chOff x="6198840" y="5212440"/>
            <a:chExt cx="2335680" cy="1493280"/>
          </a:xfrm>
        </p:grpSpPr>
        <p:sp>
          <p:nvSpPr>
            <p:cNvPr id="427" name="Rectangle 60"/>
            <p:cNvSpPr/>
            <p:nvPr/>
          </p:nvSpPr>
          <p:spPr>
            <a:xfrm flipH="1" flipV="1">
              <a:off x="6455160" y="5883480"/>
              <a:ext cx="1794240" cy="5947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Arc 61"/>
            <p:cNvSpPr/>
            <p:nvPr/>
          </p:nvSpPr>
          <p:spPr>
            <a:xfrm flipH="1" flipV="1">
              <a:off x="6257880" y="6150240"/>
              <a:ext cx="971640" cy="46512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Arc 62"/>
            <p:cNvSpPr/>
            <p:nvPr/>
          </p:nvSpPr>
          <p:spPr>
            <a:xfrm flipH="1" flipV="1">
              <a:off x="7072560" y="6228360"/>
              <a:ext cx="1386360" cy="47736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Arc 63"/>
            <p:cNvSpPr/>
            <p:nvPr/>
          </p:nvSpPr>
          <p:spPr>
            <a:xfrm flipH="1" flipV="1" rot="16200000">
              <a:off x="7978680" y="5830560"/>
              <a:ext cx="686160" cy="42552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Arc 64"/>
            <p:cNvSpPr/>
            <p:nvPr/>
          </p:nvSpPr>
          <p:spPr>
            <a:xfrm flipH="1" flipV="1" rot="12610800">
              <a:off x="7504200" y="5390280"/>
              <a:ext cx="867240" cy="58392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Arc 65"/>
            <p:cNvSpPr/>
            <p:nvPr/>
          </p:nvSpPr>
          <p:spPr>
            <a:xfrm flipH="1" flipV="1" rot="11016600">
              <a:off x="6618960" y="5334480"/>
              <a:ext cx="1182600" cy="58392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Arc 66"/>
            <p:cNvSpPr/>
            <p:nvPr/>
          </p:nvSpPr>
          <p:spPr>
            <a:xfrm flipH="1" flipV="1" rot="9905400">
              <a:off x="6248880" y="5725440"/>
              <a:ext cx="654840" cy="47736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67"/>
            <p:cNvSpPr/>
            <p:nvPr/>
          </p:nvSpPr>
          <p:spPr>
            <a:xfrm flipH="1" flipV="1">
              <a:off x="6699600" y="5608800"/>
              <a:ext cx="1468080" cy="5947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5" name="Text Box 68"/>
          <p:cNvSpPr/>
          <p:nvPr/>
        </p:nvSpPr>
        <p:spPr>
          <a:xfrm>
            <a:off x="6400800" y="5715000"/>
            <a:ext cx="2133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ganization z2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504d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0504d"/>
                </a:solidFill>
                <a:latin typeface="Arial"/>
              </a:rPr>
              <a:t>209.88.237.0/2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Line 2"/>
          <p:cNvSpPr/>
          <p:nvPr/>
        </p:nvSpPr>
        <p:spPr>
          <a:xfrm flipV="1">
            <a:off x="1981080" y="2971800"/>
            <a:ext cx="175284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3"/>
          <p:cNvSpPr/>
          <p:nvPr/>
        </p:nvSpPr>
        <p:spPr>
          <a:xfrm flipV="1">
            <a:off x="5562720" y="2057400"/>
            <a:ext cx="175248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4"/>
          <p:cNvSpPr/>
          <p:nvPr/>
        </p:nvSpPr>
        <p:spPr>
          <a:xfrm>
            <a:off x="5715000" y="3505320"/>
            <a:ext cx="1523880" cy="761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5"/>
          <p:cNvSpPr/>
          <p:nvPr/>
        </p:nvSpPr>
        <p:spPr>
          <a:xfrm>
            <a:off x="7086600" y="4343400"/>
            <a:ext cx="380880" cy="1295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6"/>
          <p:cNvSpPr/>
          <p:nvPr/>
        </p:nvSpPr>
        <p:spPr>
          <a:xfrm flipH="1">
            <a:off x="5181480" y="4343400"/>
            <a:ext cx="1828800" cy="1371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IDR and Routing Inform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2" name="Group 8"/>
          <p:cNvGrpSpPr/>
          <p:nvPr/>
        </p:nvGrpSpPr>
        <p:grpSpPr>
          <a:xfrm>
            <a:off x="-8280" y="1657800"/>
            <a:ext cx="4002120" cy="4780800"/>
            <a:chOff x="-8280" y="1657800"/>
            <a:chExt cx="4002120" cy="4780800"/>
          </a:xfrm>
        </p:grpSpPr>
        <p:sp>
          <p:nvSpPr>
            <p:cNvPr id="443" name="Rectangle 9"/>
            <p:cNvSpPr/>
            <p:nvPr/>
          </p:nvSpPr>
          <p:spPr>
            <a:xfrm flipV="1">
              <a:off x="599400" y="3605760"/>
              <a:ext cx="2871000" cy="20484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Arc 10"/>
            <p:cNvSpPr/>
            <p:nvPr/>
          </p:nvSpPr>
          <p:spPr>
            <a:xfrm flipV="1">
              <a:off x="2230560" y="4524840"/>
              <a:ext cx="1554840" cy="1601640"/>
            </a:xfrm>
            <a:prstGeom prst="pie">
              <a:avLst/>
            </a:prstGeom>
            <a:solidFill>
              <a:srgbClr val="ffcc66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Arc 11"/>
            <p:cNvSpPr/>
            <p:nvPr/>
          </p:nvSpPr>
          <p:spPr>
            <a:xfrm flipV="1">
              <a:off x="263520" y="4793400"/>
              <a:ext cx="2218320" cy="1644840"/>
            </a:xfrm>
            <a:prstGeom prst="pie">
              <a:avLst/>
            </a:prstGeom>
            <a:solidFill>
              <a:srgbClr val="ffcc66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Arc 12"/>
            <p:cNvSpPr/>
            <p:nvPr/>
          </p:nvSpPr>
          <p:spPr>
            <a:xfrm flipV="1" rot="5400000">
              <a:off x="-698400" y="3816360"/>
              <a:ext cx="2363400" cy="680760"/>
            </a:xfrm>
            <a:prstGeom prst="pie">
              <a:avLst/>
            </a:prstGeom>
            <a:solidFill>
              <a:srgbClr val="ffcc66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Arc 13"/>
            <p:cNvSpPr/>
            <p:nvPr/>
          </p:nvSpPr>
          <p:spPr>
            <a:xfrm flipV="1" rot="8989200">
              <a:off x="402840" y="1908360"/>
              <a:ext cx="1387800" cy="2011680"/>
            </a:xfrm>
            <a:prstGeom prst="pie">
              <a:avLst/>
            </a:prstGeom>
            <a:solidFill>
              <a:srgbClr val="ffcc66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Arc 14"/>
            <p:cNvSpPr/>
            <p:nvPr/>
          </p:nvSpPr>
          <p:spPr>
            <a:xfrm flipV="1" rot="10583400">
              <a:off x="1315440" y="1715040"/>
              <a:ext cx="1892160" cy="2012040"/>
            </a:xfrm>
            <a:prstGeom prst="pie">
              <a:avLst/>
            </a:prstGeom>
            <a:solidFill>
              <a:srgbClr val="ffcc66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Arc 15"/>
            <p:cNvSpPr/>
            <p:nvPr/>
          </p:nvSpPr>
          <p:spPr>
            <a:xfrm flipV="1" rot="11694600">
              <a:off x="2751840" y="3063960"/>
              <a:ext cx="1047960" cy="1644840"/>
            </a:xfrm>
            <a:prstGeom prst="pie">
              <a:avLst/>
            </a:prstGeom>
            <a:solidFill>
              <a:srgbClr val="ffcc66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Rectangle 16"/>
            <p:cNvSpPr/>
            <p:nvPr/>
          </p:nvSpPr>
          <p:spPr>
            <a:xfrm flipV="1">
              <a:off x="730080" y="2660400"/>
              <a:ext cx="2348640" cy="20484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" name="Group 17"/>
          <p:cNvGrpSpPr/>
          <p:nvPr/>
        </p:nvGrpSpPr>
        <p:grpSpPr>
          <a:xfrm>
            <a:off x="3352680" y="1460520"/>
            <a:ext cx="3290040" cy="2502000"/>
            <a:chOff x="3352680" y="1460520"/>
            <a:chExt cx="3290040" cy="2502000"/>
          </a:xfrm>
        </p:grpSpPr>
        <p:sp>
          <p:nvSpPr>
            <p:cNvPr id="452" name="Rectangle 18"/>
            <p:cNvSpPr/>
            <p:nvPr/>
          </p:nvSpPr>
          <p:spPr>
            <a:xfrm flipV="1">
              <a:off x="3751920" y="2545920"/>
              <a:ext cx="2512080" cy="102420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Arc 19"/>
            <p:cNvSpPr/>
            <p:nvPr/>
          </p:nvSpPr>
          <p:spPr>
            <a:xfrm flipV="1">
              <a:off x="5179320" y="3005280"/>
              <a:ext cx="1360440" cy="801000"/>
            </a:xfrm>
            <a:prstGeom prst="pie">
              <a:avLst/>
            </a:prstGeom>
            <a:solidFill>
              <a:srgbClr val="99ff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Arc 20"/>
            <p:cNvSpPr/>
            <p:nvPr/>
          </p:nvSpPr>
          <p:spPr>
            <a:xfrm flipV="1">
              <a:off x="3458160" y="3139560"/>
              <a:ext cx="1941120" cy="822600"/>
            </a:xfrm>
            <a:prstGeom prst="pie">
              <a:avLst/>
            </a:prstGeom>
            <a:solidFill>
              <a:srgbClr val="99ff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Arc 21"/>
            <p:cNvSpPr/>
            <p:nvPr/>
          </p:nvSpPr>
          <p:spPr>
            <a:xfrm flipV="1" rot="5400000">
              <a:off x="3059640" y="2523600"/>
              <a:ext cx="1181880" cy="595800"/>
            </a:xfrm>
            <a:prstGeom prst="pie">
              <a:avLst/>
            </a:prstGeom>
            <a:solidFill>
              <a:srgbClr val="99ff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Arc 22"/>
            <p:cNvSpPr/>
            <p:nvPr/>
          </p:nvSpPr>
          <p:spPr>
            <a:xfrm flipV="1" rot="8989200">
              <a:off x="3579840" y="1697040"/>
              <a:ext cx="1214280" cy="1005840"/>
            </a:xfrm>
            <a:prstGeom prst="pie">
              <a:avLst/>
            </a:prstGeom>
            <a:solidFill>
              <a:srgbClr val="99ff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Arc 23"/>
            <p:cNvSpPr/>
            <p:nvPr/>
          </p:nvSpPr>
          <p:spPr>
            <a:xfrm flipV="1" rot="10583400">
              <a:off x="4377960" y="1600560"/>
              <a:ext cx="1655640" cy="1005840"/>
            </a:xfrm>
            <a:prstGeom prst="pie">
              <a:avLst/>
            </a:prstGeom>
            <a:solidFill>
              <a:srgbClr val="99ff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Arc 24"/>
            <p:cNvSpPr/>
            <p:nvPr/>
          </p:nvSpPr>
          <p:spPr>
            <a:xfrm flipV="1" rot="11694600">
              <a:off x="5635440" y="2274480"/>
              <a:ext cx="916920" cy="822600"/>
            </a:xfrm>
            <a:prstGeom prst="pie">
              <a:avLst/>
            </a:prstGeom>
            <a:solidFill>
              <a:srgbClr val="99ff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25"/>
            <p:cNvSpPr/>
            <p:nvPr/>
          </p:nvSpPr>
          <p:spPr>
            <a:xfrm flipV="1">
              <a:off x="3866400" y="2072880"/>
              <a:ext cx="2055240" cy="102420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Rectangle 26"/>
          <p:cNvSpPr/>
          <p:nvPr/>
        </p:nvSpPr>
        <p:spPr>
          <a:xfrm>
            <a:off x="3809880" y="2666880"/>
            <a:ext cx="1752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504d"/>
                </a:solidFill>
                <a:latin typeface="Arial"/>
              </a:rPr>
              <a:t>206.0.64.0/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504d"/>
                </a:solidFill>
                <a:latin typeface="Arial"/>
              </a:rPr>
              <a:t>204.188.0.0/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504d"/>
                </a:solidFill>
                <a:latin typeface="Arial"/>
              </a:rPr>
              <a:t>209.88.232.0/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27"/>
          <p:cNvSpPr/>
          <p:nvPr/>
        </p:nvSpPr>
        <p:spPr>
          <a:xfrm>
            <a:off x="228600" y="32767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et Backb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28"/>
          <p:cNvSpPr/>
          <p:nvPr/>
        </p:nvSpPr>
        <p:spPr>
          <a:xfrm>
            <a:off x="3809880" y="220968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P X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w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3" name="Group 29"/>
          <p:cNvGrpSpPr/>
          <p:nvPr/>
        </p:nvGrpSpPr>
        <p:grpSpPr>
          <a:xfrm>
            <a:off x="6458040" y="1422360"/>
            <a:ext cx="2418840" cy="1493640"/>
            <a:chOff x="6458040" y="1422360"/>
            <a:chExt cx="2418840" cy="1493640"/>
          </a:xfrm>
        </p:grpSpPr>
        <p:sp>
          <p:nvSpPr>
            <p:cNvPr id="464" name="Rectangle 30"/>
            <p:cNvSpPr/>
            <p:nvPr/>
          </p:nvSpPr>
          <p:spPr>
            <a:xfrm flipV="1" rot="16200000">
              <a:off x="7464240" y="1609920"/>
              <a:ext cx="987120" cy="10407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Arc 31"/>
            <p:cNvSpPr/>
            <p:nvPr/>
          </p:nvSpPr>
          <p:spPr>
            <a:xfrm flipV="1" rot="16200000">
              <a:off x="8044200" y="1388520"/>
              <a:ext cx="534600" cy="813600"/>
            </a:xfrm>
            <a:prstGeom prst="pie">
              <a:avLst/>
            </a:prstGeom>
            <a:solidFill>
              <a:srgbClr val="0000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Arc 32"/>
            <p:cNvSpPr/>
            <p:nvPr/>
          </p:nvSpPr>
          <p:spPr>
            <a:xfrm flipV="1" rot="16200000">
              <a:off x="8077680" y="1940040"/>
              <a:ext cx="762840" cy="835560"/>
            </a:xfrm>
            <a:prstGeom prst="pie">
              <a:avLst/>
            </a:prstGeom>
            <a:solidFill>
              <a:srgbClr val="0000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Arc 33"/>
            <p:cNvSpPr/>
            <p:nvPr/>
          </p:nvSpPr>
          <p:spPr>
            <a:xfrm flipV="1">
              <a:off x="7117920" y="2547000"/>
              <a:ext cx="1200600" cy="234000"/>
            </a:xfrm>
            <a:prstGeom prst="pie">
              <a:avLst/>
            </a:prstGeom>
            <a:solidFill>
              <a:srgbClr val="0000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Arc 34"/>
            <p:cNvSpPr/>
            <p:nvPr/>
          </p:nvSpPr>
          <p:spPr>
            <a:xfrm flipV="1" rot="3588600">
              <a:off x="6848280" y="1941120"/>
              <a:ext cx="477000" cy="1022040"/>
            </a:xfrm>
            <a:prstGeom prst="pie">
              <a:avLst/>
            </a:prstGeom>
            <a:solidFill>
              <a:srgbClr val="0000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Arc 35"/>
            <p:cNvSpPr/>
            <p:nvPr/>
          </p:nvSpPr>
          <p:spPr>
            <a:xfrm flipV="1" rot="5182800">
              <a:off x="6663240" y="1540800"/>
              <a:ext cx="650520" cy="1022040"/>
            </a:xfrm>
            <a:prstGeom prst="pie">
              <a:avLst/>
            </a:prstGeom>
            <a:solidFill>
              <a:srgbClr val="0000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Arc 36"/>
            <p:cNvSpPr/>
            <p:nvPr/>
          </p:nvSpPr>
          <p:spPr>
            <a:xfrm flipV="1" rot="6294000">
              <a:off x="7400160" y="1285560"/>
              <a:ext cx="360360" cy="835560"/>
            </a:xfrm>
            <a:prstGeom prst="pie">
              <a:avLst/>
            </a:prstGeom>
            <a:solidFill>
              <a:srgbClr val="0000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Rectangle 37"/>
            <p:cNvSpPr/>
            <p:nvPr/>
          </p:nvSpPr>
          <p:spPr>
            <a:xfrm flipV="1" rot="16200000">
              <a:off x="7074000" y="1654920"/>
              <a:ext cx="807480" cy="10407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Text Box 38"/>
          <p:cNvSpPr/>
          <p:nvPr/>
        </p:nvSpPr>
        <p:spPr>
          <a:xfrm>
            <a:off x="6781680" y="1828800"/>
            <a:ext cx="18288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ny X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504d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c0504d"/>
                </a:solidFill>
                <a:latin typeface="Arial"/>
              </a:rPr>
              <a:t>206.0.68.0/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Group 39"/>
          <p:cNvGrpSpPr/>
          <p:nvPr/>
        </p:nvGrpSpPr>
        <p:grpSpPr>
          <a:xfrm>
            <a:off x="6534000" y="3251160"/>
            <a:ext cx="2419560" cy="1494000"/>
            <a:chOff x="6534000" y="3251160"/>
            <a:chExt cx="2419560" cy="1494000"/>
          </a:xfrm>
        </p:grpSpPr>
        <p:sp>
          <p:nvSpPr>
            <p:cNvPr id="474" name="Rectangle 40"/>
            <p:cNvSpPr/>
            <p:nvPr/>
          </p:nvSpPr>
          <p:spPr>
            <a:xfrm flipV="1" rot="16200000">
              <a:off x="7540920" y="3438720"/>
              <a:ext cx="987120" cy="10407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Arc 41"/>
            <p:cNvSpPr/>
            <p:nvPr/>
          </p:nvSpPr>
          <p:spPr>
            <a:xfrm flipV="1" rot="16200000">
              <a:off x="8120880" y="3217320"/>
              <a:ext cx="534600" cy="813960"/>
            </a:xfrm>
            <a:prstGeom prst="pie">
              <a:avLst/>
            </a:prstGeom>
            <a:solidFill>
              <a:srgbClr val="0000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Arc 42"/>
            <p:cNvSpPr/>
            <p:nvPr/>
          </p:nvSpPr>
          <p:spPr>
            <a:xfrm flipV="1" rot="16200000">
              <a:off x="8154000" y="3768480"/>
              <a:ext cx="762840" cy="835920"/>
            </a:xfrm>
            <a:prstGeom prst="pie">
              <a:avLst/>
            </a:prstGeom>
            <a:solidFill>
              <a:srgbClr val="0000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Arc 43"/>
            <p:cNvSpPr/>
            <p:nvPr/>
          </p:nvSpPr>
          <p:spPr>
            <a:xfrm flipV="1">
              <a:off x="7193880" y="4375800"/>
              <a:ext cx="1200960" cy="234000"/>
            </a:xfrm>
            <a:prstGeom prst="pie">
              <a:avLst/>
            </a:prstGeom>
            <a:solidFill>
              <a:srgbClr val="0000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Arc 44"/>
            <p:cNvSpPr/>
            <p:nvPr/>
          </p:nvSpPr>
          <p:spPr>
            <a:xfrm flipV="1" rot="3588600">
              <a:off x="6924600" y="3770280"/>
              <a:ext cx="477000" cy="1022400"/>
            </a:xfrm>
            <a:prstGeom prst="pie">
              <a:avLst/>
            </a:prstGeom>
            <a:solidFill>
              <a:srgbClr val="0000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Arc 45"/>
            <p:cNvSpPr/>
            <p:nvPr/>
          </p:nvSpPr>
          <p:spPr>
            <a:xfrm flipV="1" rot="5182800">
              <a:off x="6739200" y="3369240"/>
              <a:ext cx="650520" cy="1022400"/>
            </a:xfrm>
            <a:prstGeom prst="pie">
              <a:avLst/>
            </a:prstGeom>
            <a:solidFill>
              <a:srgbClr val="0000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Arc 46"/>
            <p:cNvSpPr/>
            <p:nvPr/>
          </p:nvSpPr>
          <p:spPr>
            <a:xfrm flipV="1" rot="6294000">
              <a:off x="7476480" y="3115080"/>
              <a:ext cx="360360" cy="835920"/>
            </a:xfrm>
            <a:prstGeom prst="pie">
              <a:avLst/>
            </a:prstGeom>
            <a:solidFill>
              <a:srgbClr val="0000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Rectangle 47"/>
            <p:cNvSpPr/>
            <p:nvPr/>
          </p:nvSpPr>
          <p:spPr>
            <a:xfrm flipV="1" rot="16200000">
              <a:off x="7150680" y="3483720"/>
              <a:ext cx="807480" cy="10407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" name="Text Box 48"/>
          <p:cNvSpPr/>
          <p:nvPr/>
        </p:nvSpPr>
        <p:spPr>
          <a:xfrm>
            <a:off x="6934320" y="3733920"/>
            <a:ext cx="1828800" cy="7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P y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504d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0504d"/>
                </a:solidFill>
                <a:latin typeface="Arial"/>
              </a:rPr>
              <a:t>209.88.237.0/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Group 49"/>
          <p:cNvGrpSpPr/>
          <p:nvPr/>
        </p:nvGrpSpPr>
        <p:grpSpPr>
          <a:xfrm>
            <a:off x="3607920" y="5136120"/>
            <a:ext cx="2335680" cy="1493280"/>
            <a:chOff x="3607920" y="5136120"/>
            <a:chExt cx="2335680" cy="1493280"/>
          </a:xfrm>
        </p:grpSpPr>
        <p:sp>
          <p:nvSpPr>
            <p:cNvPr id="484" name="Rectangle 50"/>
            <p:cNvSpPr/>
            <p:nvPr/>
          </p:nvSpPr>
          <p:spPr>
            <a:xfrm flipH="1" flipV="1">
              <a:off x="3864240" y="5807160"/>
              <a:ext cx="1794240" cy="5947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Arc 51"/>
            <p:cNvSpPr/>
            <p:nvPr/>
          </p:nvSpPr>
          <p:spPr>
            <a:xfrm flipH="1" flipV="1">
              <a:off x="3666960" y="6073920"/>
              <a:ext cx="971640" cy="46512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Arc 52"/>
            <p:cNvSpPr/>
            <p:nvPr/>
          </p:nvSpPr>
          <p:spPr>
            <a:xfrm flipH="1" flipV="1">
              <a:off x="4481640" y="6152040"/>
              <a:ext cx="1386360" cy="47736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Arc 53"/>
            <p:cNvSpPr/>
            <p:nvPr/>
          </p:nvSpPr>
          <p:spPr>
            <a:xfrm flipH="1" flipV="1" rot="16200000">
              <a:off x="5387760" y="5754240"/>
              <a:ext cx="686160" cy="42552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Arc 54"/>
            <p:cNvSpPr/>
            <p:nvPr/>
          </p:nvSpPr>
          <p:spPr>
            <a:xfrm flipH="1" flipV="1" rot="12610800">
              <a:off x="4913280" y="5313960"/>
              <a:ext cx="867240" cy="58392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Arc 55"/>
            <p:cNvSpPr/>
            <p:nvPr/>
          </p:nvSpPr>
          <p:spPr>
            <a:xfrm flipH="1" flipV="1" rot="11016600">
              <a:off x="4028040" y="5258160"/>
              <a:ext cx="1182600" cy="58392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Arc 56"/>
            <p:cNvSpPr/>
            <p:nvPr/>
          </p:nvSpPr>
          <p:spPr>
            <a:xfrm flipH="1" flipV="1" rot="9905400">
              <a:off x="3657960" y="5649120"/>
              <a:ext cx="654840" cy="47736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Rectangle 57"/>
            <p:cNvSpPr/>
            <p:nvPr/>
          </p:nvSpPr>
          <p:spPr>
            <a:xfrm flipH="1" flipV="1">
              <a:off x="4108680" y="5532480"/>
              <a:ext cx="1468080" cy="5947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Text Box 58"/>
          <p:cNvSpPr/>
          <p:nvPr/>
        </p:nvSpPr>
        <p:spPr>
          <a:xfrm>
            <a:off x="3809880" y="5638680"/>
            <a:ext cx="2133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ganization z1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504d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0504d"/>
                </a:solidFill>
                <a:latin typeface="Arial"/>
              </a:rPr>
              <a:t>209.88.237.192/2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3" name="Group 59"/>
          <p:cNvGrpSpPr/>
          <p:nvPr/>
        </p:nvGrpSpPr>
        <p:grpSpPr>
          <a:xfrm>
            <a:off x="6198840" y="5212440"/>
            <a:ext cx="2335680" cy="1493280"/>
            <a:chOff x="6198840" y="5212440"/>
            <a:chExt cx="2335680" cy="1493280"/>
          </a:xfrm>
        </p:grpSpPr>
        <p:sp>
          <p:nvSpPr>
            <p:cNvPr id="494" name="Rectangle 60"/>
            <p:cNvSpPr/>
            <p:nvPr/>
          </p:nvSpPr>
          <p:spPr>
            <a:xfrm flipH="1" flipV="1">
              <a:off x="6455160" y="5883480"/>
              <a:ext cx="1794240" cy="5947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Arc 61"/>
            <p:cNvSpPr/>
            <p:nvPr/>
          </p:nvSpPr>
          <p:spPr>
            <a:xfrm flipH="1" flipV="1">
              <a:off x="6257880" y="6150240"/>
              <a:ext cx="971640" cy="46512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Arc 62"/>
            <p:cNvSpPr/>
            <p:nvPr/>
          </p:nvSpPr>
          <p:spPr>
            <a:xfrm flipH="1" flipV="1">
              <a:off x="7072560" y="6228360"/>
              <a:ext cx="1386360" cy="47736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Arc 63"/>
            <p:cNvSpPr/>
            <p:nvPr/>
          </p:nvSpPr>
          <p:spPr>
            <a:xfrm flipH="1" flipV="1" rot="16200000">
              <a:off x="7978680" y="5830560"/>
              <a:ext cx="686160" cy="42552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Arc 64"/>
            <p:cNvSpPr/>
            <p:nvPr/>
          </p:nvSpPr>
          <p:spPr>
            <a:xfrm flipH="1" flipV="1" rot="12610800">
              <a:off x="7504200" y="5390280"/>
              <a:ext cx="867240" cy="58392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Arc 65"/>
            <p:cNvSpPr/>
            <p:nvPr/>
          </p:nvSpPr>
          <p:spPr>
            <a:xfrm flipH="1" flipV="1" rot="11016600">
              <a:off x="6618960" y="5334480"/>
              <a:ext cx="1182600" cy="58392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Arc 66"/>
            <p:cNvSpPr/>
            <p:nvPr/>
          </p:nvSpPr>
          <p:spPr>
            <a:xfrm flipH="1" flipV="1" rot="9905400">
              <a:off x="6248880" y="5725440"/>
              <a:ext cx="654840" cy="47736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Rectangle 67"/>
            <p:cNvSpPr/>
            <p:nvPr/>
          </p:nvSpPr>
          <p:spPr>
            <a:xfrm flipH="1" flipV="1">
              <a:off x="6699600" y="5608800"/>
              <a:ext cx="1468080" cy="5947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2" name="Text Box 68"/>
          <p:cNvSpPr/>
          <p:nvPr/>
        </p:nvSpPr>
        <p:spPr>
          <a:xfrm>
            <a:off x="6400800" y="5715000"/>
            <a:ext cx="2133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ganization z2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504d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0504d"/>
                </a:solidFill>
                <a:latin typeface="Arial"/>
              </a:rPr>
              <a:t>209.88.237.0/2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69"/>
          <p:cNvSpPr/>
          <p:nvPr/>
        </p:nvSpPr>
        <p:spPr>
          <a:xfrm>
            <a:off x="228600" y="5257800"/>
            <a:ext cx="3191040" cy="1067400"/>
          </a:xfrm>
          <a:prstGeom prst="borderCallout1">
            <a:avLst>
              <a:gd name="adj1" fmla="val 18750"/>
              <a:gd name="adj2" fmla="val -8333"/>
              <a:gd name="adj3" fmla="val -43828"/>
              <a:gd name="adj4" fmla="val -5365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Arial"/>
              </a:rPr>
              <a:t>Backbone sends everything which matches the prefixes</a:t>
            </a:r>
            <a:r>
              <a:rPr b="0" lang="en-US" sz="1600" spc="-1" strike="noStrike">
                <a:solidFill>
                  <a:srgbClr val="c0504d"/>
                </a:solidFill>
                <a:latin typeface="Arial"/>
              </a:rPr>
              <a:t> 206.0.64.0/18, 204.188.0.0/15, 209.88.232.0/21 </a:t>
            </a:r>
            <a:r>
              <a:rPr b="0" lang="en-US" sz="1600" spc="-1" strike="noStrike">
                <a:solidFill>
                  <a:srgbClr val="1f497d"/>
                </a:solidFill>
                <a:latin typeface="Arial"/>
              </a:rPr>
              <a:t>to ISP X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70"/>
          <p:cNvSpPr/>
          <p:nvPr/>
        </p:nvSpPr>
        <p:spPr>
          <a:xfrm>
            <a:off x="457200" y="3505320"/>
            <a:ext cx="3191040" cy="1067400"/>
          </a:xfrm>
          <a:prstGeom prst="borderCallout1">
            <a:avLst>
              <a:gd name="adj1" fmla="val 18750"/>
              <a:gd name="adj2" fmla="val -8333"/>
              <a:gd name="adj3" fmla="val 2527"/>
              <a:gd name="adj4" fmla="val 116115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Arial"/>
              </a:rPr>
              <a:t>ISP X sends everything which matches the prefix: </a:t>
            </a:r>
            <a:r>
              <a:rPr b="0" lang="en-US" sz="1600" spc="-1" strike="noStrike">
                <a:solidFill>
                  <a:srgbClr val="c0504d"/>
                </a:solidFill>
                <a:latin typeface="Arial"/>
              </a:rPr>
              <a:t>206.0.68.0/22  </a:t>
            </a:r>
            <a:r>
              <a:rPr b="0" lang="en-US" sz="1600" spc="-1" strike="noStrike">
                <a:solidFill>
                  <a:srgbClr val="1f497d"/>
                </a:solidFill>
                <a:latin typeface="Arial"/>
              </a:rPr>
              <a:t>to Company X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504d"/>
                </a:solidFill>
                <a:latin typeface="Arial"/>
              </a:rPr>
              <a:t>209.88.237.0/24 </a:t>
            </a:r>
            <a:r>
              <a:rPr b="0" lang="en-US" sz="1600" spc="-1" strike="noStrike">
                <a:solidFill>
                  <a:srgbClr val="1f497d"/>
                </a:solidFill>
                <a:latin typeface="Arial"/>
              </a:rPr>
              <a:t>to ISP 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71"/>
          <p:cNvSpPr/>
          <p:nvPr/>
        </p:nvSpPr>
        <p:spPr>
          <a:xfrm>
            <a:off x="1285920" y="1015920"/>
            <a:ext cx="3190680" cy="824040"/>
          </a:xfrm>
          <a:prstGeom prst="borderCallout1">
            <a:avLst>
              <a:gd name="adj1" fmla="val 18750"/>
              <a:gd name="adj2" fmla="val -8333"/>
              <a:gd name="adj3" fmla="val 204189"/>
              <a:gd name="adj4" fmla="val -20888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Arial"/>
              </a:rPr>
              <a:t>Backbone routers do not know anything about Company X, ISP Y, or Organizations z1, z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72"/>
          <p:cNvSpPr/>
          <p:nvPr/>
        </p:nvSpPr>
        <p:spPr>
          <a:xfrm>
            <a:off x="152280" y="2362320"/>
            <a:ext cx="3191040" cy="580680"/>
          </a:xfrm>
          <a:prstGeom prst="borderCallout1">
            <a:avLst>
              <a:gd name="adj1" fmla="val 18750"/>
              <a:gd name="adj2" fmla="val -8333"/>
              <a:gd name="adj3" fmla="val 76763"/>
              <a:gd name="adj4" fmla="val 118800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Arial"/>
              </a:rPr>
              <a:t>ISP X does not know about Organizations z1, z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73"/>
          <p:cNvSpPr/>
          <p:nvPr/>
        </p:nvSpPr>
        <p:spPr>
          <a:xfrm>
            <a:off x="3581280" y="2281320"/>
            <a:ext cx="3886200" cy="1067400"/>
          </a:xfrm>
          <a:prstGeom prst="borderCallout1">
            <a:avLst>
              <a:gd name="adj1" fmla="val 18750"/>
              <a:gd name="adj2" fmla="val -8333"/>
              <a:gd name="adj3" fmla="val 98481"/>
              <a:gd name="adj4" fmla="val 120087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Arial"/>
              </a:rPr>
              <a:t>ISP y sends everything which matches the prefix: </a:t>
            </a:r>
            <a:br>
              <a:rPr sz="1600"/>
            </a:br>
            <a:r>
              <a:rPr b="0" lang="en-US" sz="1600" spc="-1" strike="noStrike">
                <a:solidFill>
                  <a:srgbClr val="c0504d"/>
                </a:solidFill>
                <a:latin typeface="Arial"/>
              </a:rPr>
              <a:t>209.88.237.192/26 </a:t>
            </a:r>
            <a:r>
              <a:rPr b="0" lang="en-US" sz="1600" spc="-1" strike="noStrike">
                <a:solidFill>
                  <a:srgbClr val="1f497d"/>
                </a:solidFill>
                <a:latin typeface="Arial"/>
              </a:rPr>
              <a:t>to Organizations z1</a:t>
            </a:r>
            <a:br>
              <a:rPr sz="1600"/>
            </a:br>
            <a:r>
              <a:rPr b="0" lang="en-US" sz="16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0504d"/>
                </a:solidFill>
                <a:latin typeface="Arial"/>
              </a:rPr>
              <a:t>209.88.237.0/26 </a:t>
            </a:r>
            <a:r>
              <a:rPr b="0" lang="en-US" sz="1600" spc="-1" strike="noStrike">
                <a:solidFill>
                  <a:srgbClr val="1f497d"/>
                </a:solidFill>
                <a:latin typeface="Arial"/>
              </a:rPr>
              <a:t>to Organizations z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Pv6 - IP Version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IP Version 6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s the successor to the currently used IPv4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pecification completed in 1994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kes improvements to IPv4 (no revolutionary chang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ne (not the only !) feature of IPv6 is a significant increase in of the IP address to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128 bits (16 byt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Pv6 will solve – for the foreseeable future – the problems with IP address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24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ddresses per square inch on the surface of the Earth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Pv6 Head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1" name="Object 2"/>
          <p:cNvGraphicFramePr/>
          <p:nvPr/>
        </p:nvGraphicFramePr>
        <p:xfrm>
          <a:off x="457200" y="5310360"/>
          <a:ext cx="8467560" cy="112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10360"/>
                    <a:ext cx="8467560" cy="112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3" name="Line 4"/>
          <p:cNvSpPr/>
          <p:nvPr/>
        </p:nvSpPr>
        <p:spPr>
          <a:xfrm>
            <a:off x="1828800" y="51055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5"/>
          <p:cNvSpPr/>
          <p:nvPr/>
        </p:nvSpPr>
        <p:spPr>
          <a:xfrm flipH="1">
            <a:off x="3276360" y="5181480"/>
            <a:ext cx="510516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5" name="Object 3"/>
          <p:cNvGraphicFramePr/>
          <p:nvPr/>
        </p:nvGraphicFramePr>
        <p:xfrm>
          <a:off x="533520" y="838080"/>
          <a:ext cx="8472240" cy="444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838080"/>
                    <a:ext cx="8472240" cy="44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Pv6 vs. IPv4: Address Comparis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0" y="1785960"/>
            <a:ext cx="914400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IPv4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s a maximum of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alibri"/>
              </a:rPr>
              <a:t>32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4 billion addre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Calibri"/>
              </a:rPr>
              <a:t>IPv6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has a maximum of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Calibri"/>
              </a:rPr>
              <a:t>2</a:t>
            </a:r>
            <a:r>
              <a:rPr b="1" lang="en-US" sz="2400" spc="-1" strike="noStrike" baseline="30000">
                <a:solidFill>
                  <a:srgbClr val="c0504d"/>
                </a:solidFill>
                <a:latin typeface="Calibri"/>
              </a:rPr>
              <a:t>128</a:t>
            </a:r>
            <a:r>
              <a:rPr b="1" lang="en-US" sz="2400" spc="-1" strike="noStrike">
                <a:solidFill>
                  <a:srgbClr val="c0504d"/>
                </a:solidFill>
                <a:latin typeface="Calibri"/>
              </a:rPr>
              <a:t> = (2</a:t>
            </a:r>
            <a:r>
              <a:rPr b="1" lang="en-US" sz="2400" spc="-1" strike="noStrike" baseline="30000">
                <a:solidFill>
                  <a:srgbClr val="c0504d"/>
                </a:solidFill>
                <a:latin typeface="Calibri"/>
              </a:rPr>
              <a:t>32</a:t>
            </a:r>
            <a:r>
              <a:rPr b="1" lang="en-US" sz="2400" spc="-1" strike="noStrike">
                <a:solidFill>
                  <a:srgbClr val="c0504d"/>
                </a:solidFill>
                <a:latin typeface="Calibri"/>
              </a:rPr>
              <a:t>)</a:t>
            </a:r>
            <a:r>
              <a:rPr b="1" lang="en-US" sz="2400" spc="-1" strike="noStrike" baseline="30000">
                <a:solidFill>
                  <a:srgbClr val="c0504d"/>
                </a:solidFill>
                <a:latin typeface="Calibri"/>
              </a:rPr>
              <a:t>4 </a:t>
            </a:r>
            <a:r>
              <a:rPr b="1" lang="en-US" sz="2400" spc="-1" strike="noStrike">
                <a:solidFill>
                  <a:srgbClr val="c0504d"/>
                </a:solidFill>
                <a:latin typeface="Symbol"/>
                <a:ea typeface="Symbol"/>
              </a:rPr>
              <a:t></a:t>
            </a:r>
            <a:r>
              <a:rPr b="1" lang="en-US" sz="2400" spc="-1" strike="noStrike">
                <a:solidFill>
                  <a:srgbClr val="c0504d"/>
                </a:solidFill>
                <a:latin typeface="Calibri"/>
              </a:rPr>
              <a:t> 4 billion </a:t>
            </a:r>
            <a:r>
              <a:rPr b="1" lang="en-US" sz="2400" spc="-1" strike="noStrike">
                <a:solidFill>
                  <a:srgbClr val="c0504d"/>
                </a:solidFill>
                <a:latin typeface="Calibri"/>
                <a:ea typeface="Arial"/>
              </a:rPr>
              <a:t>x</a:t>
            </a:r>
            <a:r>
              <a:rPr b="1" lang="en-US" sz="2400" spc="-1" strike="noStrike">
                <a:solidFill>
                  <a:srgbClr val="c0504d"/>
                </a:solidFill>
                <a:latin typeface="Calibri"/>
              </a:rPr>
              <a:t> 4 billion </a:t>
            </a:r>
            <a:r>
              <a:rPr b="1" lang="en-US" sz="2400" spc="-1" strike="noStrike">
                <a:solidFill>
                  <a:srgbClr val="c0504d"/>
                </a:solidFill>
                <a:latin typeface="Calibri"/>
                <a:ea typeface="Arial"/>
              </a:rPr>
              <a:t>x</a:t>
            </a:r>
            <a:r>
              <a:rPr b="1" lang="en-US" sz="2400" spc="-1" strike="noStrike">
                <a:solidFill>
                  <a:srgbClr val="c0504d"/>
                </a:solidFill>
                <a:latin typeface="Calibri"/>
              </a:rPr>
              <a:t> 4 billion x 4 billion </a:t>
            </a:r>
            <a:r>
              <a:rPr b="1" lang="en-US" sz="24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c0504d"/>
                </a:solidFill>
                <a:latin typeface="Calibri"/>
              </a:rPr>
              <a:t>                addre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teri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0004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rse web site: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lambda.ee/index.php/Andmeside_protokolli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ll use severa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o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terials on web (wikipedia, RFC-s, .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urse materials (ppt, pdf) from CISCO and other univers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ommended book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. Hunt "TCP/IP network administration"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.Comer, S.Stevens "Internetworking with TCP/IP"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llings "Data and computer communications"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tation of IPv6 addr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0504d"/>
              </a:buClr>
              <a:buFont typeface="Arial"/>
              <a:buChar char="•"/>
              <a:tabLst>
                <a:tab algn="l" pos="4687920"/>
                <a:tab algn="l" pos="4975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504d"/>
                </a:solidFill>
                <a:latin typeface="Calibri"/>
              </a:rPr>
              <a:t>Conven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The 128-bit IPv6 address is written as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ight 16-bit integer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using hexadecimal digits for each intege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687920"/>
                <a:tab algn="l" pos="4975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CEDF:BP76:3245:4464:FACE:2E50:3025:DF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687920"/>
                <a:tab algn="l" pos="4975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0504d"/>
              </a:buClr>
              <a:buFont typeface="Arial"/>
              <a:buChar char="•"/>
              <a:tabLst>
                <a:tab algn="l" pos="4687920"/>
                <a:tab algn="l" pos="4975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504d"/>
                </a:solidFill>
                <a:latin typeface="Calibri"/>
              </a:rPr>
              <a:t>Short notatio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687920"/>
                <a:tab algn="l" pos="4975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bbreviations of leading zero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687920"/>
                <a:tab algn="l" pos="4975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CEDF:BP76:0000:0000:009E:0000:3025:DF12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CEDF:BP76:0:0:9E :0:3025:DF12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687920"/>
                <a:tab algn="l" pos="4975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0000:0000:0000” can be written as “::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687920"/>
                <a:tab algn="l" pos="4975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CEDF:BP76:0:0:FACE:0:3025:DF12    </a:t>
            </a:r>
            <a:r>
              <a:rPr b="1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CEDF:BP76::FACE:0:3025:DF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687920"/>
                <a:tab algn="l" pos="4975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Pv6 addresses derived from IPv4 addresses have 96 leading zero bits. Convention allows to use IPv4 notation for the last 32 bi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687920"/>
                <a:tab algn="l" pos="4975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::80:8F:89:90   </a:t>
            </a:r>
            <a:r>
              <a:rPr b="1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  ::128.143.137.14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Pv6 Provider-Based Addr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687920"/>
                <a:tab algn="l" pos="4975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first IPv6 addresses will be allocated to a provider-based pla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70000"/>
              </a:lnSpc>
              <a:spcBef>
                <a:spcPts val="675"/>
              </a:spcBef>
              <a:buNone/>
              <a:tabLst>
                <a:tab algn="l" pos="4687920"/>
                <a:tab algn="l" pos="4975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70000"/>
              </a:lnSpc>
              <a:spcBef>
                <a:spcPts val="675"/>
              </a:spcBef>
              <a:buNone/>
              <a:tabLst>
                <a:tab algn="l" pos="4687920"/>
                <a:tab algn="l" pos="4975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70000"/>
              </a:lnSpc>
              <a:spcBef>
                <a:spcPts val="675"/>
              </a:spcBef>
              <a:buNone/>
              <a:tabLst>
                <a:tab algn="l" pos="4687920"/>
                <a:tab algn="l" pos="4975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7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4687920"/>
                <a:tab algn="l" pos="4975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Calibri"/>
              </a:rPr>
              <a:t>Type: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t to “010” for provider-based address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7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4687920"/>
                <a:tab algn="l" pos="4975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Calibri"/>
              </a:rPr>
              <a:t>Registry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: identifies the agency that registered the addres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4687920"/>
                <a:tab algn="l" pos="4975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c0504d"/>
                </a:solidFill>
                <a:latin typeface="Calibri"/>
              </a:rPr>
              <a:t>The following fields have a variable length (recommeded length in “()”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7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4687920"/>
                <a:tab algn="l" pos="4975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Calibri"/>
              </a:rPr>
              <a:t>Provider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: Id of Internet access provider </a:t>
            </a:r>
            <a:r>
              <a:rPr b="0" i="1" lang="en-US" sz="1700" spc="-1" strike="noStrike">
                <a:solidFill>
                  <a:srgbClr val="c0504d"/>
                </a:solidFill>
                <a:latin typeface="Calibri"/>
              </a:rPr>
              <a:t>(16 bits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7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4687920"/>
                <a:tab algn="l" pos="4975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Calibri"/>
              </a:rPr>
              <a:t>Subscriber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Id of the organization at provider </a:t>
            </a:r>
            <a:r>
              <a:rPr b="0" i="1" lang="en-US" sz="1700" spc="-1" strike="noStrike">
                <a:solidFill>
                  <a:srgbClr val="c0504d"/>
                </a:solidFill>
                <a:latin typeface="Calibri"/>
              </a:rPr>
              <a:t>(24 bits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7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4687920"/>
                <a:tab algn="l" pos="4975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Calibri"/>
              </a:rPr>
              <a:t>Subnetwork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: Id of subnet within organization </a:t>
            </a:r>
            <a:r>
              <a:rPr b="0" i="1" lang="en-US" sz="1700" spc="-1" strike="noStrike">
                <a:solidFill>
                  <a:srgbClr val="c0504d"/>
                </a:solidFill>
                <a:latin typeface="Calibri"/>
              </a:rPr>
              <a:t>(32 bits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7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4687920"/>
                <a:tab algn="l" pos="4975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Calibri"/>
              </a:rPr>
              <a:t>Interface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: identifies an interface at a node </a:t>
            </a:r>
            <a:r>
              <a:rPr b="0" i="1" lang="en-US" sz="1700" spc="-1" strike="noStrike">
                <a:solidFill>
                  <a:srgbClr val="c0504d"/>
                </a:solidFill>
                <a:latin typeface="Calibri"/>
              </a:rPr>
              <a:t>(48 bits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Rectangle 4"/>
          <p:cNvSpPr/>
          <p:nvPr/>
        </p:nvSpPr>
        <p:spPr>
          <a:xfrm>
            <a:off x="1066680" y="2362320"/>
            <a:ext cx="1371600" cy="68580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gistr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5"/>
          <p:cNvSpPr/>
          <p:nvPr/>
        </p:nvSpPr>
        <p:spPr>
          <a:xfrm>
            <a:off x="2438280" y="2362320"/>
            <a:ext cx="1371600" cy="685800"/>
          </a:xfrm>
          <a:prstGeom prst="rect">
            <a:avLst/>
          </a:prstGeom>
          <a:solidFill>
            <a:srgbClr val="ffcc66"/>
          </a:solidFill>
          <a:ln w="0">
            <a:noFill/>
          </a:ln>
          <a:effectLst>
            <a:outerShdw dist="17819" dir="2700000" blurRad="0" rotWithShape="0">
              <a:srgbClr val="997a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vider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6"/>
          <p:cNvSpPr/>
          <p:nvPr/>
        </p:nvSpPr>
        <p:spPr>
          <a:xfrm>
            <a:off x="457200" y="2362320"/>
            <a:ext cx="609480" cy="68580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7"/>
          <p:cNvSpPr/>
          <p:nvPr/>
        </p:nvSpPr>
        <p:spPr>
          <a:xfrm>
            <a:off x="3809880" y="2362320"/>
            <a:ext cx="1600200" cy="685800"/>
          </a:xfrm>
          <a:prstGeom prst="rect">
            <a:avLst/>
          </a:prstGeom>
          <a:solidFill>
            <a:srgbClr val="ff6b6b"/>
          </a:solidFill>
          <a:ln w="0">
            <a:noFill/>
          </a:ln>
          <a:effectLst>
            <a:outerShdw dist="17819" dir="2700000" blurRad="0" rotWithShape="0">
              <a:srgbClr val="99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bscriber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8"/>
          <p:cNvSpPr/>
          <p:nvPr/>
        </p:nvSpPr>
        <p:spPr>
          <a:xfrm>
            <a:off x="6934320" y="2362320"/>
            <a:ext cx="1676160" cy="68580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997a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9"/>
          <p:cNvSpPr/>
          <p:nvPr/>
        </p:nvSpPr>
        <p:spPr>
          <a:xfrm>
            <a:off x="5410080" y="2362320"/>
            <a:ext cx="1524240" cy="68580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bnetwork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for pas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 + lab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tails will be determined during April, depending on student background and progr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3T19:59:35Z</dcterms:created>
  <dc:creator>Tanel Tammet</dc:creator>
  <dc:description/>
  <dc:language>en-US</dc:language>
  <cp:lastModifiedBy>Tanel Tammet</cp:lastModifiedBy>
  <dcterms:modified xsi:type="dcterms:W3CDTF">2008-04-04T11:50:36Z</dcterms:modified>
  <cp:revision>103</cp:revision>
  <dc:subject/>
  <dc:title>Networking protocols</dc:title>
</cp:coreProperties>
</file>